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D194-EA69-498E-8BFE-5C1972576D1C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6920" y="123840"/>
            <a:ext cx="6208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4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74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4" idx="3"/>
            <a:endCxn id="27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8" name=""/>
          <p:cNvCxnSpPr>
            <a:stCxn id="271" idx="0"/>
            <a:endCxn id="27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81" idx="2"/>
            <a:endCxn id="27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8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289" name="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293" name="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6" name=""/>
          <p:cNvCxnSpPr>
            <a:stCxn id="285" idx="2"/>
            <a:endCxn id="293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97" name="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"/>
          <p:cNvCxnSpPr>
            <a:stCxn id="300" idx="2"/>
            <a:endCxn id="289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1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303" name="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6" name=""/>
          <p:cNvCxnSpPr>
            <a:stCxn id="301" idx="3"/>
            <a:endCxn id="304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7" name="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11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11" idx="3"/>
            <a:endCxn id="313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308" idx="0"/>
            <a:endCxn id="312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8" idx="2"/>
            <a:endCxn id="309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21" idx="2"/>
            <a:endCxn id="322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stCxn id="326" idx="3"/>
            <a:endCxn id="317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27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1" idx="2"/>
            <a:endCxn id="330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0" name="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326" name="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"/>
          <p:cNvCxnSpPr>
            <a:stCxn id="321" idx="2"/>
            <a:endCxn id="333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5" name="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1" idx="2"/>
            <a:endCxn id="337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72280" y="52164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79360" y="85392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0840" y="239400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62360" y="3870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78000" y="1327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4" idx="0"/>
            <a:endCxn id="346" idx="4"/>
          </p:cNvCxnSpPr>
          <p:nvPr/>
        </p:nvCxnSpPr>
        <p:spPr>
          <a:xfrm flipH="1" flipV="1">
            <a:off x="1353240" y="1493640"/>
            <a:ext cx="3960" cy="886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8" name=""/>
          <p:cNvSpPr/>
          <p:nvPr/>
        </p:nvSpPr>
        <p:spPr>
          <a:xfrm>
            <a:off x="1278000" y="369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4" idx="2"/>
            <a:endCxn id="348" idx="0"/>
          </p:cNvCxnSpPr>
          <p:nvPr/>
        </p:nvCxnSpPr>
        <p:spPr>
          <a:xfrm flipH="1">
            <a:off x="1353240" y="2833560"/>
            <a:ext cx="3960" cy="845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525840" y="963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31400" y="83520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43" idx="3"/>
            <a:endCxn id="350" idx="2"/>
          </p:cNvCxnSpPr>
          <p:nvPr/>
        </p:nvCxnSpPr>
        <p:spPr>
          <a:xfrm flipV="1">
            <a:off x="2457000" y="1056960"/>
            <a:ext cx="1040760" cy="10080"/>
          </a:xfrm>
          <a:prstGeom prst="bentConnector3">
            <a:avLst>
              <a:gd name="adj1" fmla="val 5065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53" name=""/>
          <p:cNvSpPr/>
          <p:nvPr/>
        </p:nvSpPr>
        <p:spPr>
          <a:xfrm>
            <a:off x="3440160" y="235116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4" name=""/>
          <p:cNvCxnSpPr>
            <a:stCxn id="351" idx="2"/>
            <a:endCxn id="355" idx="0"/>
          </p:cNvCxnSpPr>
          <p:nvPr/>
        </p:nvCxnSpPr>
        <p:spPr>
          <a:xfrm flipV="1" rot="10800000">
            <a:off x="5939640" y="1274400"/>
            <a:ext cx="1080" cy="811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5" name=""/>
          <p:cNvSpPr/>
          <p:nvPr/>
        </p:nvSpPr>
        <p:spPr>
          <a:xfrm>
            <a:off x="5846760" y="21146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773360" y="5622840"/>
            <a:ext cx="2895840" cy="398880"/>
            <a:chOff x="1773360" y="5622840"/>
            <a:chExt cx="2895840" cy="398880"/>
          </a:xfrm>
        </p:grpSpPr>
        <p:sp>
          <p:nvSpPr>
            <p:cNvPr id="357" name=""/>
            <p:cNvSpPr/>
            <p:nvPr/>
          </p:nvSpPr>
          <p:spPr>
            <a:xfrm>
              <a:off x="2010600" y="562284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73360" y="57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9" name=""/>
          <p:cNvCxnSpPr>
            <a:stCxn id="360" idx="2"/>
            <a:endCxn id="358" idx="2"/>
          </p:cNvCxnSpPr>
          <p:nvPr/>
        </p:nvCxnSpPr>
        <p:spPr>
          <a:xfrm flipH="1" rot="16200000">
            <a:off x="1248480" y="5352840"/>
            <a:ext cx="59256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57" idx="3"/>
            <a:endCxn id="362" idx="2"/>
          </p:cNvCxnSpPr>
          <p:nvPr/>
        </p:nvCxnSpPr>
        <p:spPr>
          <a:xfrm>
            <a:off x="4695480" y="5835600"/>
            <a:ext cx="1397880" cy="72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529560" y="1590840"/>
            <a:ext cx="294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: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327000" y="560232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07040" y="57484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342200" y="4349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760" y="481644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65400" y="4583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7" name=""/>
          <p:cNvCxnSpPr>
            <a:stCxn id="345" idx="2"/>
            <a:endCxn id="366" idx="0"/>
          </p:cNvCxnSpPr>
          <p:nvPr/>
        </p:nvCxnSpPr>
        <p:spPr>
          <a:xfrm rot="5400000">
            <a:off x="1243080" y="4424400"/>
            <a:ext cx="244800" cy="14760"/>
          </a:xfrm>
          <a:prstGeom prst="bentConnector3">
            <a:avLst>
              <a:gd name="adj1" fmla="val 5257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68" name=""/>
          <p:cNvSpPr/>
          <p:nvPr/>
        </p:nvSpPr>
        <p:spPr>
          <a:xfrm>
            <a:off x="5015520" y="54579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1280" y="308304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ign_part_sp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ASSEMBLY_DESIGN_STRUCTURAL_MEMBER_LINEAR (1, 'M1', 'left hand column', $, 1, .LOW., .F., .F., .T., .COMBINED_MEMBER., .PRIMARY_MEMBER., .COLUM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411 = DESIGN_PART ('left column main component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,(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ART_PRISMATIC_SIMPLE (1, 'PP1', 'columns main component', $, .ROLLED., 'piece mark 1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701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SECTION_PROFILE_I_TYPE (1, 'W14x16x500', 'Wide flange beam to ASTM', 'Plastic', $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203, #204, #205, #2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OSITIVE_LENGTH_MEASURE_WITH_UNIT (POSITIVE_LENGTH_MEASURE(498.0), #102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75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75" idx="3"/>
            <a:endCxn id="377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72" idx="0"/>
            <a:endCxn id="376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83" name="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stCxn id="385" idx="2"/>
            <a:endCxn id="373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85" idx="2"/>
            <a:endCxn id="383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89" idx="2"/>
            <a:endCxn id="390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94" idx="3"/>
            <a:endCxn id="381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5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398" name="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390" name="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389" idx="2"/>
            <a:endCxn id="401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03" name="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"/>
          <p:cNvCxnSpPr>
            <a:stCxn id="399" idx="3"/>
            <a:endCxn id="405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410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2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14" name=""/>
          <p:cNvCxnSpPr>
            <a:stCxn id="407" idx="0"/>
            <a:endCxn id="411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15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418" name="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"/>
          <p:cNvCxnSpPr>
            <a:stCxn id="420" idx="2"/>
            <a:endCxn id="408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22" name=""/>
          <p:cNvCxnSpPr>
            <a:stCxn id="420" idx="2"/>
            <a:endCxn id="418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2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19" idx="3"/>
            <a:endCxn id="416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432" name="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436" name="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39" name=""/>
          <p:cNvCxnSpPr>
            <a:stCxn id="428" idx="0"/>
            <a:endCxn id="436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"/>
          <p:cNvCxnSpPr>
            <a:stCxn id="443" idx="0"/>
            <a:endCxn id="432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449" name="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453" name="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457" name="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460" name="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64" name="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Part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469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0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2641680" y="5202360"/>
            <a:ext cx="1623240" cy="398880"/>
            <a:chOff x="2641680" y="5202360"/>
            <a:chExt cx="1623240" cy="398880"/>
          </a:xfrm>
        </p:grpSpPr>
        <p:sp>
          <p:nvSpPr>
            <p:cNvPr id="473" name=""/>
            <p:cNvSpPr/>
            <p:nvPr/>
          </p:nvSpPr>
          <p:spPr>
            <a:xfrm>
              <a:off x="2880360" y="5202360"/>
              <a:ext cx="1384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64168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1549800" y="3952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75" idx="2"/>
            <a:endCxn id="474" idx="2"/>
          </p:cNvCxnSpPr>
          <p:nvPr/>
        </p:nvCxnSpPr>
        <p:spPr>
          <a:xfrm flipH="1" rot="16200000">
            <a:off x="1719000" y="4533480"/>
            <a:ext cx="10357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75" idx="3"/>
            <a:endCxn id="478" idx="2"/>
          </p:cNvCxnSpPr>
          <p:nvPr/>
        </p:nvCxnSpPr>
        <p:spPr>
          <a:xfrm flipV="1">
            <a:off x="2198160" y="4158720"/>
            <a:ext cx="986760" cy="7200"/>
          </a:xfrm>
          <a:prstGeom prst="bentConnector3">
            <a:avLst>
              <a:gd name="adj1" fmla="val 5069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79" name=""/>
          <p:cNvSpPr/>
          <p:nvPr/>
        </p:nvSpPr>
        <p:spPr>
          <a:xfrm>
            <a:off x="1487160" y="4495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3213000" y="3905280"/>
            <a:ext cx="2282400" cy="412920"/>
            <a:chOff x="3213000" y="3905280"/>
            <a:chExt cx="2282400" cy="412920"/>
          </a:xfrm>
        </p:grpSpPr>
        <p:sp>
          <p:nvSpPr>
            <p:cNvPr id="481" name=""/>
            <p:cNvSpPr/>
            <p:nvPr/>
          </p:nvSpPr>
          <p:spPr>
            <a:xfrm>
              <a:off x="3450960" y="3919320"/>
              <a:ext cx="1598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deri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13000" y="40654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37000" y="3905280"/>
              <a:ext cx="15840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2641680" y="5780160"/>
            <a:ext cx="1935000" cy="398880"/>
            <a:chOff x="2641680" y="5780160"/>
            <a:chExt cx="1935000" cy="398880"/>
          </a:xfrm>
        </p:grpSpPr>
        <p:sp>
          <p:nvSpPr>
            <p:cNvPr id="484" name=""/>
            <p:cNvSpPr/>
            <p:nvPr/>
          </p:nvSpPr>
          <p:spPr>
            <a:xfrm>
              <a:off x="2865960" y="5780160"/>
              <a:ext cx="1710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41680" y="59119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86" name=""/>
          <p:cNvCxnSpPr>
            <a:stCxn id="475" idx="2"/>
            <a:endCxn id="485" idx="2"/>
          </p:cNvCxnSpPr>
          <p:nvPr/>
        </p:nvCxnSpPr>
        <p:spPr>
          <a:xfrm flipH="1" rot="16200000">
            <a:off x="1430280" y="4822560"/>
            <a:ext cx="16135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487" name=""/>
          <p:cNvGrpSpPr/>
          <p:nvPr/>
        </p:nvGrpSpPr>
        <p:grpSpPr>
          <a:xfrm>
            <a:off x="2625840" y="4626000"/>
            <a:ext cx="2018880" cy="398880"/>
            <a:chOff x="2625840" y="4626000"/>
            <a:chExt cx="2018880" cy="398880"/>
          </a:xfrm>
        </p:grpSpPr>
        <p:sp>
          <p:nvSpPr>
            <p:cNvPr id="488" name=""/>
            <p:cNvSpPr/>
            <p:nvPr/>
          </p:nvSpPr>
          <p:spPr>
            <a:xfrm>
              <a:off x="2863800" y="46260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2584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90" name=""/>
          <p:cNvCxnSpPr>
            <a:stCxn id="475" idx="2"/>
            <a:endCxn id="489" idx="2"/>
          </p:cNvCxnSpPr>
          <p:nvPr/>
        </p:nvCxnSpPr>
        <p:spPr>
          <a:xfrm flipH="1" rot="16200000">
            <a:off x="1999440" y="4253400"/>
            <a:ext cx="459360" cy="737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91" name=""/>
          <p:cNvSpPr/>
          <p:nvPr/>
        </p:nvSpPr>
        <p:spPr>
          <a:xfrm>
            <a:off x="7226280" y="13539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333480" y="1981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5595840" y="2822400"/>
            <a:ext cx="3232440" cy="703800"/>
            <a:chOff x="5595840" y="2822400"/>
            <a:chExt cx="3232440" cy="703800"/>
          </a:xfrm>
        </p:grpSpPr>
        <p:sp>
          <p:nvSpPr>
            <p:cNvPr id="494" name=""/>
            <p:cNvSpPr/>
            <p:nvPr/>
          </p:nvSpPr>
          <p:spPr>
            <a:xfrm>
              <a:off x="5814360" y="282240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595840" y="3098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96" name=""/>
          <p:cNvCxnSpPr>
            <a:stCxn id="497" idx="3"/>
            <a:endCxn id="495" idx="2"/>
          </p:cNvCxnSpPr>
          <p:nvPr/>
        </p:nvCxnSpPr>
        <p:spPr>
          <a:xfrm>
            <a:off x="3427560" y="3191040"/>
            <a:ext cx="2140560" cy="2160"/>
          </a:xfrm>
          <a:prstGeom prst="bentConnector3">
            <a:avLst>
              <a:gd name="adj1" fmla="val 502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6785640" y="9000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93760" y="297828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494" idx="0"/>
            <a:endCxn id="491" idx="4"/>
          </p:cNvCxnSpPr>
          <p:nvPr/>
        </p:nvCxnSpPr>
        <p:spPr>
          <a:xfrm flipH="1" flipV="1">
            <a:off x="7319160" y="1555200"/>
            <a:ext cx="2520" cy="1253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1528920" y="1563840"/>
            <a:ext cx="317520" cy="1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1" name=""/>
          <p:cNvCxnSpPr>
            <a:stCxn id="497" idx="2"/>
            <a:endCxn id="502" idx="0"/>
          </p:cNvCxnSpPr>
          <p:nvPr/>
        </p:nvCxnSpPr>
        <p:spPr>
          <a:xfrm flipH="1" rot="16200000">
            <a:off x="1703520" y="3568320"/>
            <a:ext cx="303840" cy="2160"/>
          </a:xfrm>
          <a:prstGeom prst="bentConnector3">
            <a:avLst>
              <a:gd name="adj1" fmla="val 5231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1778040" y="3749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62200" y="3749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490680" y="855720"/>
            <a:ext cx="5291280" cy="2065320"/>
            <a:chOff x="490680" y="855720"/>
            <a:chExt cx="5291280" cy="2065320"/>
          </a:xfrm>
        </p:grpSpPr>
        <p:sp>
          <p:nvSpPr>
            <p:cNvPr id="505" name=""/>
            <p:cNvSpPr/>
            <p:nvPr/>
          </p:nvSpPr>
          <p:spPr>
            <a:xfrm>
              <a:off x="490680" y="85572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2120" y="27334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"/>
            <p:cNvCxnSpPr>
              <a:endCxn id="506" idx="0"/>
            </p:cNvCxnSpPr>
            <p:nvPr/>
          </p:nvCxnSpPr>
          <p:spPr>
            <a:xfrm rot="5400000">
              <a:off x="138600" y="198684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508" name=""/>
            <p:cNvGrpSpPr/>
            <p:nvPr/>
          </p:nvGrpSpPr>
          <p:grpSpPr>
            <a:xfrm>
              <a:off x="1245960" y="1269720"/>
              <a:ext cx="4536000" cy="1509840"/>
              <a:chOff x="1245960" y="1269720"/>
              <a:chExt cx="4536000" cy="1509840"/>
            </a:xfrm>
          </p:grpSpPr>
          <p:sp>
            <p:nvSpPr>
              <p:cNvPr id="509" name=""/>
              <p:cNvSpPr/>
              <p:nvPr/>
            </p:nvSpPr>
            <p:spPr>
              <a:xfrm>
                <a:off x="1560600" y="140472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715920" y="191592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722760" y="241128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495600" y="200952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486240" y="253368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949040" y="172548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76640" y="224640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6" name=""/>
              <p:cNvGrpSpPr/>
              <p:nvPr/>
            </p:nvGrpSpPr>
            <p:grpSpPr>
              <a:xfrm>
                <a:off x="4257720" y="1496880"/>
                <a:ext cx="1524240" cy="376200"/>
                <a:chOff x="4257720" y="1496880"/>
                <a:chExt cx="1524240" cy="37620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4257720" y="165240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8" name=""/>
                <p:cNvGrpSpPr/>
                <p:nvPr/>
              </p:nvGrpSpPr>
              <p:grpSpPr>
                <a:xfrm>
                  <a:off x="4456800" y="1496880"/>
                  <a:ext cx="1325160" cy="376200"/>
                  <a:chOff x="4456800" y="1496880"/>
                  <a:chExt cx="1325160" cy="37620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4456800" y="149688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V="1">
                    <a:off x="5650920" y="150768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cxnSp>
            <p:nvCxnSpPr>
              <p:cNvPr id="521" name=""/>
              <p:cNvCxnSpPr>
                <a:stCxn id="513" idx="2"/>
              </p:cNvCxnSpPr>
              <p:nvPr/>
            </p:nvCxnSpPr>
            <p:spPr>
              <a:xfrm rot="10800000">
                <a:off x="1245600" y="126936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22" name=""/>
              <p:cNvCxnSpPr>
                <a:stCxn id="512" idx="2"/>
                <a:endCxn id="505" idx="2"/>
              </p:cNvCxnSpPr>
              <p:nvPr/>
            </p:nvCxnSpPr>
            <p:spPr>
              <a:xfrm rot="10800000">
                <a:off x="1851840" y="129456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23" name=""/>
              <p:cNvCxnSpPr>
                <a:stCxn id="517" idx="2"/>
              </p:cNvCxnSpPr>
              <p:nvPr/>
            </p:nvCxnSpPr>
            <p:spPr>
              <a:xfrm rot="10800000">
                <a:off x="2515320" y="126936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524" name=""/>
              <p:cNvSpPr/>
              <p:nvPr/>
            </p:nvSpPr>
            <p:spPr>
              <a:xfrm>
                <a:off x="2600280" y="136044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2610000" y="2654280"/>
            <a:ext cx="2895840" cy="398880"/>
            <a:chOff x="2610000" y="2654280"/>
            <a:chExt cx="2895840" cy="398880"/>
          </a:xfrm>
        </p:grpSpPr>
        <p:sp>
          <p:nvSpPr>
            <p:cNvPr id="527" name=""/>
            <p:cNvSpPr/>
            <p:nvPr/>
          </p:nvSpPr>
          <p:spPr>
            <a:xfrm>
              <a:off x="2847240" y="265428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610000" y="2786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390960" y="1015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31" idx="2"/>
            <a:endCxn id="528" idx="2"/>
          </p:cNvCxnSpPr>
          <p:nvPr/>
        </p:nvCxnSpPr>
        <p:spPr>
          <a:xfrm flipH="1" rot="16200000">
            <a:off x="2084760" y="238392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32" name=""/>
          <p:cNvCxnSpPr>
            <a:stCxn id="527" idx="3"/>
            <a:endCxn id="533" idx="2"/>
          </p:cNvCxnSpPr>
          <p:nvPr/>
        </p:nvCxnSpPr>
        <p:spPr>
          <a:xfrm>
            <a:off x="5532480" y="286704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4" name=""/>
          <p:cNvSpPr/>
          <p:nvPr/>
        </p:nvSpPr>
        <p:spPr>
          <a:xfrm>
            <a:off x="296640" y="16858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163640" y="263376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943680" y="27795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2593800" y="4002120"/>
            <a:ext cx="3094200" cy="398880"/>
            <a:chOff x="2593800" y="4002120"/>
            <a:chExt cx="3094200" cy="398880"/>
          </a:xfrm>
        </p:grpSpPr>
        <p:sp>
          <p:nvSpPr>
            <p:cNvPr id="537" name=""/>
            <p:cNvSpPr/>
            <p:nvPr/>
          </p:nvSpPr>
          <p:spPr>
            <a:xfrm>
              <a:off x="2815920" y="4002120"/>
              <a:ext cx="287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593800" y="41338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39" name=""/>
          <p:cNvCxnSpPr>
            <a:stCxn id="531" idx="2"/>
            <a:endCxn id="538" idx="2"/>
          </p:cNvCxnSpPr>
          <p:nvPr/>
        </p:nvCxnSpPr>
        <p:spPr>
          <a:xfrm flipH="1" rot="16200000">
            <a:off x="1402920" y="3065760"/>
            <a:ext cx="1940760" cy="38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40" name=""/>
          <p:cNvGrpSpPr/>
          <p:nvPr/>
        </p:nvGrpSpPr>
        <p:grpSpPr>
          <a:xfrm>
            <a:off x="1054080" y="1847880"/>
            <a:ext cx="2018880" cy="398880"/>
            <a:chOff x="1054080" y="1847880"/>
            <a:chExt cx="2018880" cy="398880"/>
          </a:xfrm>
        </p:grpSpPr>
        <p:sp>
          <p:nvSpPr>
            <p:cNvPr id="531" name=""/>
            <p:cNvSpPr/>
            <p:nvPr/>
          </p:nvSpPr>
          <p:spPr>
            <a:xfrm>
              <a:off x="1292040" y="184788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054080" y="1979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2" name=""/>
          <p:cNvCxnSpPr>
            <a:stCxn id="529" idx="2"/>
            <a:endCxn id="541" idx="2"/>
          </p:cNvCxnSpPr>
          <p:nvPr/>
        </p:nvCxnSpPr>
        <p:spPr>
          <a:xfrm flipH="1" rot="16200000">
            <a:off x="554760" y="160200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43" name=""/>
          <p:cNvSpPr/>
          <p:nvPr/>
        </p:nvSpPr>
        <p:spPr>
          <a:xfrm>
            <a:off x="2353680" y="5700600"/>
            <a:ext cx="3877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complex_tap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65560" y="5467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5" name=""/>
          <p:cNvCxnSpPr>
            <a:stCxn id="537" idx="2"/>
            <a:endCxn id="544" idx="0"/>
          </p:cNvCxnSpPr>
          <p:nvPr/>
        </p:nvCxnSpPr>
        <p:spPr>
          <a:xfrm flipH="1" rot="16200000">
            <a:off x="3756600" y="4937040"/>
            <a:ext cx="997920" cy="6840"/>
          </a:xfrm>
          <a:prstGeom prst="bentConnector3">
            <a:avLst>
              <a:gd name="adj1" fmla="val 5063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46" name=""/>
          <p:cNvSpPr/>
          <p:nvPr/>
        </p:nvSpPr>
        <p:spPr>
          <a:xfrm>
            <a:off x="7959600" y="306540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52160" y="248904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41280" y="382284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37" idx="3"/>
            <a:endCxn id="546" idx="4"/>
          </p:cNvCxnSpPr>
          <p:nvPr/>
        </p:nvCxnSpPr>
        <p:spPr>
          <a:xfrm flipV="1">
            <a:off x="5713560" y="3266280"/>
            <a:ext cx="2340360" cy="94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52" name="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5" name=""/>
          <p:cNvCxnSpPr>
            <a:stCxn id="556" idx="2"/>
            <a:endCxn id="553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57" name=""/>
          <p:cNvCxnSpPr>
            <a:stCxn id="552" idx="3"/>
            <a:endCxn id="558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178840" y="142884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4641840" y="3462480"/>
            <a:ext cx="4239720" cy="398880"/>
            <a:chOff x="4641840" y="3462480"/>
            <a:chExt cx="4239720" cy="398880"/>
          </a:xfrm>
        </p:grpSpPr>
        <p:sp>
          <p:nvSpPr>
            <p:cNvPr id="563" name=""/>
            <p:cNvSpPr/>
            <p:nvPr/>
          </p:nvSpPr>
          <p:spPr>
            <a:xfrm>
              <a:off x="4863240" y="3462480"/>
              <a:ext cx="4018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641840" y="3598920"/>
              <a:ext cx="187560" cy="19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5" name=""/>
          <p:cNvCxnSpPr>
            <a:stCxn id="552" idx="2"/>
            <a:endCxn id="564" idx="2"/>
          </p:cNvCxnSpPr>
          <p:nvPr/>
        </p:nvCxnSpPr>
        <p:spPr>
          <a:xfrm flipH="1" rot="16200000">
            <a:off x="4116240" y="3200760"/>
            <a:ext cx="55620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66" name="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56" name="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8" name=""/>
          <p:cNvCxnSpPr>
            <a:stCxn id="554" idx="2"/>
            <a:endCxn id="567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>
            <a:off x="4862160" y="4097160"/>
            <a:ext cx="3934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amb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641840" y="4245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"/>
          <p:cNvCxnSpPr>
            <a:stCxn id="572" idx="2"/>
            <a:endCxn id="570" idx="2"/>
          </p:cNvCxnSpPr>
          <p:nvPr/>
        </p:nvCxnSpPr>
        <p:spPr>
          <a:xfrm flipH="1" rot="16200000">
            <a:off x="3509640" y="3235680"/>
            <a:ext cx="1227960" cy="978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9844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5082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46680" y="4700520"/>
            <a:ext cx="3566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u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610160" y="48481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>
            <a:stCxn id="574" idx="2"/>
            <a:endCxn id="576" idx="2"/>
          </p:cNvCxnSpPr>
          <p:nvPr/>
        </p:nvCxnSpPr>
        <p:spPr>
          <a:xfrm flipH="1" rot="16200000">
            <a:off x="2930040" y="3291480"/>
            <a:ext cx="1830960" cy="1470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8" name=""/>
          <p:cNvSpPr/>
          <p:nvPr/>
        </p:nvSpPr>
        <p:spPr>
          <a:xfrm>
            <a:off x="270000" y="5475240"/>
            <a:ext cx="821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 = PART_PRISMATIC_SIMPLE (1, 'PP1', 'columns main component', $, .ROLLED., 'piece mark 1', #201, #701, $, $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Analysis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92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4" name=""/>
          <p:cNvGraphicFramePr/>
          <p:nvPr/>
        </p:nvGraphicFramePr>
        <p:xfrm>
          <a:off x="2936880" y="1012680"/>
          <a:ext cx="554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6880" y="1012680"/>
                    <a:ext cx="554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1082520" y="1081080"/>
            <a:ext cx="7391520" cy="4890960"/>
          </a:xfrm>
          <a:prstGeom prst="rect">
            <a:avLst/>
          </a:prstGeom>
          <a:ln w="0">
            <a:noFill/>
          </a:ln>
        </p:spPr>
      </p:pic>
      <p:grpSp>
        <p:nvGrpSpPr>
          <p:cNvPr id="580" name=""/>
          <p:cNvGrpSpPr/>
          <p:nvPr/>
        </p:nvGrpSpPr>
        <p:grpSpPr>
          <a:xfrm>
            <a:off x="2165400" y="1201680"/>
            <a:ext cx="5432760" cy="1962000"/>
            <a:chOff x="2165400" y="1201680"/>
            <a:chExt cx="5432760" cy="1962000"/>
          </a:xfrm>
        </p:grpSpPr>
        <p:sp>
          <p:nvSpPr>
            <p:cNvPr id="581" name=""/>
            <p:cNvSpPr/>
            <p:nvPr/>
          </p:nvSpPr>
          <p:spPr>
            <a:xfrm>
              <a:off x="2165400" y="121104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28160" y="120168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3" name=""/>
            <p:cNvCxnSpPr>
              <a:stCxn id="581" idx="3"/>
              <a:endCxn id="584" idx="2"/>
            </p:cNvCxnSpPr>
            <p:nvPr/>
          </p:nvCxnSpPr>
          <p:spPr>
            <a:xfrm flipV="1">
              <a:off x="4114800" y="156312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85" name=""/>
            <p:cNvGrpSpPr/>
            <p:nvPr/>
          </p:nvGrpSpPr>
          <p:grpSpPr>
            <a:xfrm>
              <a:off x="6615360" y="1344600"/>
              <a:ext cx="982800" cy="398880"/>
              <a:chOff x="6615360" y="1344600"/>
              <a:chExt cx="982800" cy="398880"/>
            </a:xfrm>
          </p:grpSpPr>
          <p:sp>
            <p:nvSpPr>
              <p:cNvPr id="584" name=""/>
              <p:cNvSpPr/>
              <p:nvPr/>
            </p:nvSpPr>
            <p:spPr>
              <a:xfrm>
                <a:off x="6615360" y="1487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792480" y="134460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3245040" y="194940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1066680" y="1109520"/>
            <a:ext cx="7391520" cy="4813560"/>
          </a:xfrm>
          <a:prstGeom prst="rect">
            <a:avLst/>
          </a:prstGeom>
          <a:ln w="0">
            <a:noFill/>
          </a:ln>
        </p:spPr>
      </p:pic>
      <p:grpSp>
        <p:nvGrpSpPr>
          <p:cNvPr id="590" name=""/>
          <p:cNvGrpSpPr/>
          <p:nvPr/>
        </p:nvGrpSpPr>
        <p:grpSpPr>
          <a:xfrm>
            <a:off x="1180800" y="1332000"/>
            <a:ext cx="7142040" cy="1984680"/>
            <a:chOff x="1180800" y="1332000"/>
            <a:chExt cx="7142040" cy="1984680"/>
          </a:xfrm>
        </p:grpSpPr>
        <p:sp>
          <p:nvSpPr>
            <p:cNvPr id="591" name=""/>
            <p:cNvSpPr/>
            <p:nvPr/>
          </p:nvSpPr>
          <p:spPr>
            <a:xfrm>
              <a:off x="1324440" y="135576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2" name=""/>
            <p:cNvCxnSpPr>
              <a:stCxn id="591" idx="2"/>
              <a:endCxn id="593" idx="0"/>
            </p:cNvCxnSpPr>
            <p:nvPr/>
          </p:nvCxnSpPr>
          <p:spPr>
            <a:xfrm>
              <a:off x="2463120" y="210024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94" name=""/>
            <p:cNvSpPr/>
            <p:nvPr/>
          </p:nvSpPr>
          <p:spPr>
            <a:xfrm>
              <a:off x="2534040" y="210816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1180800" y="2757240"/>
              <a:ext cx="2644920" cy="559440"/>
              <a:chOff x="1180800" y="2757240"/>
              <a:chExt cx="2644920" cy="559440"/>
            </a:xfrm>
          </p:grpSpPr>
          <p:sp>
            <p:nvSpPr>
              <p:cNvPr id="593" name=""/>
              <p:cNvSpPr/>
              <p:nvPr/>
            </p:nvSpPr>
            <p:spPr>
              <a:xfrm>
                <a:off x="2387520" y="275724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180800" y="291780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7" name=""/>
            <p:cNvSpPr/>
            <p:nvPr/>
          </p:nvSpPr>
          <p:spPr>
            <a:xfrm>
              <a:off x="3705480" y="133200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6190920" y="1536120"/>
              <a:ext cx="2131920" cy="374760"/>
              <a:chOff x="6190920" y="1536120"/>
              <a:chExt cx="2131920" cy="374760"/>
            </a:xfrm>
          </p:grpSpPr>
          <p:sp>
            <p:nvSpPr>
              <p:cNvPr id="599" name=""/>
              <p:cNvSpPr/>
              <p:nvPr/>
            </p:nvSpPr>
            <p:spPr>
              <a:xfrm>
                <a:off x="6190920" y="16588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333480" y="15379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8197200" y="1536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02" name=""/>
            <p:cNvCxnSpPr>
              <a:stCxn id="591" idx="3"/>
              <a:endCxn id="599" idx="2"/>
            </p:cNvCxnSpPr>
            <p:nvPr/>
          </p:nvCxnSpPr>
          <p:spPr>
            <a:xfrm>
              <a:off x="3628440" y="172080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3" name=""/>
            <p:cNvSpPr/>
            <p:nvPr/>
          </p:nvSpPr>
          <p:spPr>
            <a:xfrm>
              <a:off x="6605280" y="196524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257040" y="165240"/>
            <a:ext cx="3929040" cy="6019560"/>
          </a:xfrm>
          <a:prstGeom prst="rect">
            <a:avLst/>
          </a:prstGeom>
          <a:ln w="0">
            <a:noFill/>
          </a:ln>
        </p:spPr>
      </p:pic>
      <p:grpSp>
        <p:nvGrpSpPr>
          <p:cNvPr id="606" name=""/>
          <p:cNvGrpSpPr/>
          <p:nvPr/>
        </p:nvGrpSpPr>
        <p:grpSpPr>
          <a:xfrm>
            <a:off x="768960" y="237960"/>
            <a:ext cx="8198640" cy="2906640"/>
            <a:chOff x="768960" y="237960"/>
            <a:chExt cx="8198640" cy="2906640"/>
          </a:xfrm>
        </p:grpSpPr>
        <p:sp>
          <p:nvSpPr>
            <p:cNvPr id="607" name=""/>
            <p:cNvSpPr/>
            <p:nvPr/>
          </p:nvSpPr>
          <p:spPr>
            <a:xfrm>
              <a:off x="4262760" y="23796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120400" y="114444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640400" y="109188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>
              <a:stCxn id="608" idx="3"/>
              <a:endCxn id="611" idx="2"/>
            </p:cNvCxnSpPr>
            <p:nvPr/>
          </p:nvCxnSpPr>
          <p:spPr>
            <a:xfrm flipV="1">
              <a:off x="4069800" y="149616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12" name=""/>
            <p:cNvGrpSpPr/>
            <p:nvPr/>
          </p:nvGrpSpPr>
          <p:grpSpPr>
            <a:xfrm>
              <a:off x="6684840" y="1277640"/>
              <a:ext cx="982800" cy="398880"/>
              <a:chOff x="6684840" y="1277640"/>
              <a:chExt cx="982800" cy="398880"/>
            </a:xfrm>
          </p:grpSpPr>
          <p:sp>
            <p:nvSpPr>
              <p:cNvPr id="611" name=""/>
              <p:cNvSpPr/>
              <p:nvPr/>
            </p:nvSpPr>
            <p:spPr>
              <a:xfrm>
                <a:off x="6684840" y="1420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861960" y="12776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1757880" y="216828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81920" y="217296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6835680" y="2349000"/>
              <a:ext cx="2131920" cy="374760"/>
              <a:chOff x="6835680" y="2349000"/>
              <a:chExt cx="2131920" cy="374760"/>
            </a:xfrm>
          </p:grpSpPr>
          <p:sp>
            <p:nvSpPr>
              <p:cNvPr id="617" name=""/>
              <p:cNvSpPr/>
              <p:nvPr/>
            </p:nvSpPr>
            <p:spPr>
              <a:xfrm>
                <a:off x="6835680" y="24717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978240" y="235080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8841960" y="234900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20" name=""/>
            <p:cNvCxnSpPr>
              <a:stCxn id="614" idx="3"/>
              <a:endCxn id="617" idx="2"/>
            </p:cNvCxnSpPr>
            <p:nvPr/>
          </p:nvCxnSpPr>
          <p:spPr>
            <a:xfrm>
              <a:off x="4062240" y="253332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21" name=""/>
            <p:cNvSpPr/>
            <p:nvPr/>
          </p:nvSpPr>
          <p:spPr>
            <a:xfrm>
              <a:off x="7249680" y="277776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68960" y="40608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622" idx="3"/>
              <a:endCxn id="624" idx="2"/>
            </p:cNvCxnSpPr>
            <p:nvPr/>
          </p:nvCxnSpPr>
          <p:spPr>
            <a:xfrm>
              <a:off x="3453840" y="61848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25" name=""/>
            <p:cNvGrpSpPr/>
            <p:nvPr/>
          </p:nvGrpSpPr>
          <p:grpSpPr>
            <a:xfrm>
              <a:off x="5617800" y="394920"/>
              <a:ext cx="2957400" cy="398880"/>
              <a:chOff x="5617800" y="394920"/>
              <a:chExt cx="2957400" cy="398880"/>
            </a:xfrm>
          </p:grpSpPr>
          <p:sp>
            <p:nvSpPr>
              <p:cNvPr id="624" name=""/>
              <p:cNvSpPr/>
              <p:nvPr/>
            </p:nvSpPr>
            <p:spPr>
              <a:xfrm>
                <a:off x="5617800" y="55224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775120" y="39492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27" name=""/>
            <p:cNvCxnSpPr>
              <a:stCxn id="628" idx="2"/>
              <a:endCxn id="614" idx="1"/>
            </p:cNvCxnSpPr>
            <p:nvPr/>
          </p:nvCxnSpPr>
          <p:spPr>
            <a:xfrm flipH="1" rot="16200000">
              <a:off x="490320" y="129312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629" name=""/>
            <p:cNvCxnSpPr>
              <a:stCxn id="628" idx="2"/>
              <a:endCxn id="608" idx="1"/>
            </p:cNvCxnSpPr>
            <p:nvPr/>
          </p:nvCxnSpPr>
          <p:spPr>
            <a:xfrm flipH="1" rot="16200000">
              <a:off x="1184040" y="59940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630" name=""/>
            <p:cNvSpPr/>
            <p:nvPr/>
          </p:nvSpPr>
          <p:spPr>
            <a:xfrm>
              <a:off x="984240" y="173664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74360" y="58248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533240" y="24285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79200" y="14173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a trimmed curv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682720" y="1254240"/>
            <a:ext cx="3683160" cy="36828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587680" y="300528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280200" y="302112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437000" y="300816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70240" y="3240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,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923760" y="1750680"/>
            <a:ext cx="0" cy="134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905040" y="3116160"/>
            <a:ext cx="79340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88880" y="1353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747080" y="324000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515080" y="2624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937680" y="32400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0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37880" y="31957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516560" y="1127160"/>
            <a:ext cx="0" cy="40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99160" y="4857840"/>
            <a:ext cx="348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entre of circle = (10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adius = 5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1 = (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2 = (1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IRCLE ('my circle, #2, 5000.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AXIS2_PLACEMENT_2D ('my axes', #3, #4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CARTESIAN_POINT ('centre point', (10000.0, 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DIRECTION ('my direction', (1.0,0.0));       /* unit x vecto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GEOMETRIC_REPRESENTATION_CONTEXT(2) GLOBAL_UNIT_ASSIGNED_CONTEXT((#5)) REPRESENTATION_CONTEXT ('my context id', 'context for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SHAPE_REPRESENTATION('semi-circle',(#1,#9),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TRIMMED_CURVE ('trim 1', #1, (#31), (#32), .T., .CARTESIA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1 = CARTESIAN_POINT ('trim point 1', (5000.0,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2 = CARTESIAN_POINT ('trim point 2', (15000.0,0.0)); 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6 = PART_PRISMATIC_SIMPLE_CURVED (1234, 'my curved beam', $, 'as built', .ROLLED., 'pvs', #15, #14, $, $, #9 ,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7 = ( PART(.WELDED.,'pvs') PART_PRISMATIC(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 (#18, #14, $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ASTELLATED (.CIRCULAR., #19, $, $, $, $, $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URVED (#9, 5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ITEM (234, 'my curved beam'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PRODUCT ('as built'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8 = SECTION_PROFILE_DERIVED (5554, 'my castellated section', $, 'semi compact', $, #1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9 = POSITIVE_LENGTH_MEASURE_WITH_UNIT (POSITIVE_LENGTH_MEASURE(500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1066680" y="2249640"/>
            <a:ext cx="7391520" cy="3786120"/>
          </a:xfrm>
          <a:prstGeom prst="rect">
            <a:avLst/>
          </a:prstGeom>
          <a:ln w="0">
            <a:noFill/>
          </a:ln>
        </p:spPr>
      </p:pic>
      <p:grpSp>
        <p:nvGrpSpPr>
          <p:cNvPr id="655" name=""/>
          <p:cNvGrpSpPr/>
          <p:nvPr/>
        </p:nvGrpSpPr>
        <p:grpSpPr>
          <a:xfrm>
            <a:off x="1091520" y="2252520"/>
            <a:ext cx="2658600" cy="1716480"/>
            <a:chOff x="1091520" y="2252520"/>
            <a:chExt cx="2658600" cy="1716480"/>
          </a:xfrm>
        </p:grpSpPr>
        <p:sp>
          <p:nvSpPr>
            <p:cNvPr id="656" name=""/>
            <p:cNvSpPr/>
            <p:nvPr/>
          </p:nvSpPr>
          <p:spPr>
            <a:xfrm>
              <a:off x="1091520" y="225252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46480" y="30906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8" name=""/>
            <p:cNvCxnSpPr>
              <a:stCxn id="656" idx="2"/>
              <a:endCxn id="657" idx="0"/>
            </p:cNvCxnSpPr>
            <p:nvPr/>
          </p:nvCxnSpPr>
          <p:spPr>
            <a:xfrm>
              <a:off x="2420640" y="269208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59" name=""/>
            <p:cNvSpPr/>
            <p:nvPr/>
          </p:nvSpPr>
          <p:spPr>
            <a:xfrm>
              <a:off x="2520360" y="27162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78720" y="326520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3951360" y="2585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103640" y="27385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5666760" y="4489560"/>
            <a:ext cx="2772360" cy="1411560"/>
            <a:chOff x="5666760" y="4489560"/>
            <a:chExt cx="2772360" cy="1411560"/>
          </a:xfrm>
        </p:grpSpPr>
        <p:sp>
          <p:nvSpPr>
            <p:cNvPr id="664" name=""/>
            <p:cNvSpPr/>
            <p:nvPr/>
          </p:nvSpPr>
          <p:spPr>
            <a:xfrm>
              <a:off x="5666760" y="448956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778440" y="53276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6" name=""/>
            <p:cNvCxnSpPr>
              <a:stCxn id="664" idx="2"/>
              <a:endCxn id="665" idx="0"/>
            </p:cNvCxnSpPr>
            <p:nvPr/>
          </p:nvCxnSpPr>
          <p:spPr>
            <a:xfrm>
              <a:off x="6848280" y="4929120"/>
              <a:ext cx="7200" cy="384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67" name=""/>
            <p:cNvSpPr/>
            <p:nvPr/>
          </p:nvSpPr>
          <p:spPr>
            <a:xfrm>
              <a:off x="6953040" y="495288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460200" y="550224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Material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55600" y="3484440"/>
            <a:ext cx="2743200" cy="2668680"/>
            <a:chOff x="255600" y="3484440"/>
            <a:chExt cx="2743200" cy="2668680"/>
          </a:xfrm>
        </p:grpSpPr>
        <p:sp>
          <p:nvSpPr>
            <p:cNvPr id="671" name=""/>
            <p:cNvSpPr/>
            <p:nvPr/>
          </p:nvSpPr>
          <p:spPr>
            <a:xfrm>
              <a:off x="255600" y="34844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41280" y="52052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Materia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668200" y="1089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416400" y="11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6" name=""/>
          <p:cNvCxnSpPr>
            <a:stCxn id="675" idx="6"/>
            <a:endCxn id="674" idx="1"/>
          </p:cNvCxnSpPr>
          <p:nvPr/>
        </p:nvCxnSpPr>
        <p:spPr>
          <a:xfrm>
            <a:off x="3617640" y="128880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7" name=""/>
          <p:cNvCxnSpPr>
            <a:stCxn id="674" idx="2"/>
            <a:endCxn id="678" idx="0"/>
          </p:cNvCxnSpPr>
          <p:nvPr/>
        </p:nvCxnSpPr>
        <p:spPr>
          <a:xfrm>
            <a:off x="7189920" y="152892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9" name=""/>
          <p:cNvSpPr/>
          <p:nvPr/>
        </p:nvSpPr>
        <p:spPr>
          <a:xfrm>
            <a:off x="6133680" y="21780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267240" y="30416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386400" y="33368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22440" y="4618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264280" y="5246640"/>
            <a:ext cx="3232080" cy="703800"/>
            <a:chOff x="5264280" y="5246640"/>
            <a:chExt cx="3232080" cy="703800"/>
          </a:xfrm>
        </p:grpSpPr>
        <p:sp>
          <p:nvSpPr>
            <p:cNvPr id="684" name=""/>
            <p:cNvSpPr/>
            <p:nvPr/>
          </p:nvSpPr>
          <p:spPr>
            <a:xfrm>
              <a:off x="5482440" y="524664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264280" y="5523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86" name=""/>
          <p:cNvCxnSpPr>
            <a:stCxn id="687" idx="3"/>
            <a:endCxn id="685" idx="2"/>
          </p:cNvCxnSpPr>
          <p:nvPr/>
        </p:nvCxnSpPr>
        <p:spPr>
          <a:xfrm flipV="1">
            <a:off x="3601800" y="5616000"/>
            <a:ext cx="1634040" cy="5400"/>
          </a:xfrm>
          <a:prstGeom prst="bentConnector3">
            <a:avLst>
              <a:gd name="adj1" fmla="val 504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688" name=""/>
          <p:cNvSpPr/>
          <p:nvPr/>
        </p:nvSpPr>
        <p:spPr>
          <a:xfrm>
            <a:off x="6429960" y="391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68360" y="5408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4" idx="0"/>
            <a:endCxn id="690" idx="4"/>
          </p:cNvCxnSpPr>
          <p:nvPr/>
        </p:nvCxnSpPr>
        <p:spPr>
          <a:xfrm flipH="1" flipV="1">
            <a:off x="6981480" y="4553640"/>
            <a:ext cx="8640" cy="678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1" name=""/>
          <p:cNvSpPr/>
          <p:nvPr/>
        </p:nvSpPr>
        <p:spPr>
          <a:xfrm>
            <a:off x="3610440" y="9349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121520" y="286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905520" y="43876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254240" y="1317600"/>
            <a:ext cx="3016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571840" y="125424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49440" y="1062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5" name=""/>
          <p:cNvCxnSpPr>
            <a:stCxn id="696" idx="2"/>
            <a:endCxn id="697" idx="0"/>
          </p:cNvCxnSpPr>
          <p:nvPr/>
        </p:nvCxnSpPr>
        <p:spPr>
          <a:xfrm rot="5400000">
            <a:off x="-826200" y="3316320"/>
            <a:ext cx="3690000" cy="10080"/>
          </a:xfrm>
          <a:prstGeom prst="bentConnector3">
            <a:avLst>
              <a:gd name="adj1" fmla="val 50385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98" name=""/>
          <p:cNvGrpSpPr/>
          <p:nvPr/>
        </p:nvGrpSpPr>
        <p:grpSpPr>
          <a:xfrm>
            <a:off x="1404720" y="1476000"/>
            <a:ext cx="4536000" cy="1510200"/>
            <a:chOff x="1404720" y="1476000"/>
            <a:chExt cx="4536000" cy="1510200"/>
          </a:xfrm>
        </p:grpSpPr>
        <p:sp>
          <p:nvSpPr>
            <p:cNvPr id="699" name=""/>
            <p:cNvSpPr/>
            <p:nvPr/>
          </p:nvSpPr>
          <p:spPr>
            <a:xfrm>
              <a:off x="1719360" y="1611360"/>
              <a:ext cx="31752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874680" y="21225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81520" y="261792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654360" y="22161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45000" y="27399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107800" y="193212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35400" y="245268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descri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4416480" y="1703520"/>
              <a:ext cx="1524240" cy="376200"/>
              <a:chOff x="4416480" y="1703520"/>
              <a:chExt cx="1524240" cy="376200"/>
            </a:xfrm>
          </p:grpSpPr>
          <p:sp>
            <p:nvSpPr>
              <p:cNvPr id="707" name=""/>
              <p:cNvSpPr/>
              <p:nvPr/>
            </p:nvSpPr>
            <p:spPr>
              <a:xfrm>
                <a:off x="4416480" y="1859040"/>
                <a:ext cx="15192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8" name=""/>
              <p:cNvGrpSpPr/>
              <p:nvPr/>
            </p:nvGrpSpPr>
            <p:grpSpPr>
              <a:xfrm>
                <a:off x="4615560" y="1703520"/>
                <a:ext cx="1325160" cy="376200"/>
                <a:chOff x="4615560" y="1703520"/>
                <a:chExt cx="1325160" cy="37620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4615560" y="1703520"/>
                  <a:ext cx="13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INTEGER 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 flipV="1">
                  <a:off x="5809680" y="1714320"/>
                  <a:ext cx="0" cy="36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711" name=""/>
            <p:cNvCxnSpPr>
              <a:stCxn id="703" idx="2"/>
              <a:endCxn id="692" idx="2"/>
            </p:cNvCxnSpPr>
            <p:nvPr/>
          </p:nvCxnSpPr>
          <p:spPr>
            <a:xfrm rot="10800000">
              <a:off x="1404360" y="1475640"/>
              <a:ext cx="2226240" cy="13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2" name=""/>
            <p:cNvCxnSpPr>
              <a:stCxn id="702" idx="2"/>
              <a:endCxn id="694" idx="2"/>
            </p:cNvCxnSpPr>
            <p:nvPr/>
          </p:nvCxnSpPr>
          <p:spPr>
            <a:xfrm rot="10800000">
              <a:off x="2010600" y="1501200"/>
              <a:ext cx="1629360" cy="80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3" name=""/>
            <p:cNvCxnSpPr>
              <a:stCxn id="707" idx="2"/>
              <a:endCxn id="693" idx="2"/>
            </p:cNvCxnSpPr>
            <p:nvPr/>
          </p:nvCxnSpPr>
          <p:spPr>
            <a:xfrm rot="10800000">
              <a:off x="2674080" y="1475640"/>
              <a:ext cx="1728000" cy="459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4" name=""/>
            <p:cNvSpPr/>
            <p:nvPr/>
          </p:nvSpPr>
          <p:spPr>
            <a:xfrm>
              <a:off x="2759040" y="156672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92088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stCxn id="696" idx="2"/>
            <a:endCxn id="716" idx="2"/>
          </p:cNvCxnSpPr>
          <p:nvPr/>
        </p:nvCxnSpPr>
        <p:spPr>
          <a:xfrm flipH="1" rot="16200000">
            <a:off x="2250720" y="248760"/>
            <a:ext cx="2669400" cy="5123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16" name=""/>
          <p:cNvSpPr/>
          <p:nvPr/>
        </p:nvSpPr>
        <p:spPr>
          <a:xfrm>
            <a:off x="6175440" y="4051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41320" y="1190520"/>
            <a:ext cx="365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0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3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5" name=""/>
          <p:cNvCxnSpPr>
            <a:stCxn id="98" idx="2"/>
            <a:endCxn id="101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98" idx="2"/>
            <a:endCxn id="104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0" idx="0"/>
            <a:endCxn id="114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1" name=""/>
          <p:cNvCxnSpPr>
            <a:stCxn id="109" idx="0"/>
            <a:endCxn id="113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8" idx="0"/>
            <a:endCxn id="122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15" idx="0"/>
            <a:endCxn id="124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6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12" idx="0"/>
            <a:endCxn id="128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16" idx="0"/>
            <a:endCxn id="130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6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8902"/>
              <a:gd name="adj2" fmla="val 8831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 of Materi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92480" y="10447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9" name=""/>
          <p:cNvCxnSpPr>
            <a:stCxn id="718" idx="2"/>
            <a:endCxn id="720" idx="2"/>
          </p:cNvCxnSpPr>
          <p:nvPr/>
        </p:nvCxnSpPr>
        <p:spPr>
          <a:xfrm flipH="1" rot="16200000">
            <a:off x="561960" y="1958040"/>
            <a:ext cx="151848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21" name=""/>
          <p:cNvGrpSpPr/>
          <p:nvPr/>
        </p:nvGrpSpPr>
        <p:grpSpPr>
          <a:xfrm>
            <a:off x="1682640" y="4011480"/>
            <a:ext cx="2603520" cy="397440"/>
            <a:chOff x="1682640" y="4011480"/>
            <a:chExt cx="2603520" cy="397440"/>
          </a:xfrm>
        </p:grpSpPr>
        <p:sp>
          <p:nvSpPr>
            <p:cNvPr id="722" name=""/>
            <p:cNvSpPr/>
            <p:nvPr/>
          </p:nvSpPr>
          <p:spPr>
            <a:xfrm>
              <a:off x="1896840" y="4011480"/>
              <a:ext cx="2389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is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682640" y="4130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2278080" y="1741320"/>
            <a:ext cx="264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constitu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063880" y="1892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635120" y="5694480"/>
            <a:ext cx="2857320" cy="397440"/>
            <a:chOff x="1635120" y="5694480"/>
            <a:chExt cx="2857320" cy="397440"/>
          </a:xfrm>
        </p:grpSpPr>
        <p:sp>
          <p:nvSpPr>
            <p:cNvPr id="727" name=""/>
            <p:cNvSpPr/>
            <p:nvPr/>
          </p:nvSpPr>
          <p:spPr>
            <a:xfrm>
              <a:off x="1849320" y="56944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orth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35120" y="5813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1635120" y="2773440"/>
            <a:ext cx="2857320" cy="397440"/>
            <a:chOff x="1635120" y="2773440"/>
            <a:chExt cx="2857320" cy="397440"/>
          </a:xfrm>
        </p:grpSpPr>
        <p:sp>
          <p:nvSpPr>
            <p:cNvPr id="730" name=""/>
            <p:cNvSpPr/>
            <p:nvPr/>
          </p:nvSpPr>
          <p:spPr>
            <a:xfrm>
              <a:off x="1849320" y="277344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anis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35120" y="2908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1" name=""/>
          <p:cNvCxnSpPr>
            <a:stCxn id="718" idx="2"/>
            <a:endCxn id="728" idx="2"/>
          </p:cNvCxnSpPr>
          <p:nvPr/>
        </p:nvCxnSpPr>
        <p:spPr>
          <a:xfrm flipH="1" rot="16200000">
            <a:off x="-890640" y="3410640"/>
            <a:ext cx="442368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32" name=""/>
          <p:cNvCxnSpPr>
            <a:stCxn id="718" idx="2"/>
            <a:endCxn id="723" idx="2"/>
          </p:cNvCxnSpPr>
          <p:nvPr/>
        </p:nvCxnSpPr>
        <p:spPr>
          <a:xfrm flipH="1" rot="16200000">
            <a:off x="-25560" y="2545200"/>
            <a:ext cx="2740680" cy="618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33" name=""/>
          <p:cNvCxnSpPr>
            <a:stCxn id="734" idx="2"/>
            <a:endCxn id="725" idx="2"/>
          </p:cNvCxnSpPr>
          <p:nvPr/>
        </p:nvCxnSpPr>
        <p:spPr>
          <a:xfrm flipH="1" rot="16200000">
            <a:off x="1481040" y="1431720"/>
            <a:ext cx="494640" cy="614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4" name=""/>
          <p:cNvSpPr/>
          <p:nvPr/>
        </p:nvSpPr>
        <p:spPr>
          <a:xfrm>
            <a:off x="1285920" y="1285920"/>
            <a:ext cx="2700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622520" y="11793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6" name=""/>
          <p:cNvCxnSpPr>
            <a:stCxn id="730" idx="3"/>
            <a:endCxn id="737" idx="2"/>
          </p:cNvCxnSpPr>
          <p:nvPr/>
        </p:nvCxnSpPr>
        <p:spPr>
          <a:xfrm flipV="1">
            <a:off x="4506840" y="2970000"/>
            <a:ext cx="243288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8" name=""/>
          <p:cNvSpPr/>
          <p:nvPr/>
        </p:nvSpPr>
        <p:spPr>
          <a:xfrm>
            <a:off x="1848240" y="9032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9" name=""/>
          <p:cNvCxnSpPr>
            <a:stCxn id="724" idx="0"/>
            <a:endCxn id="735" idx="6"/>
          </p:cNvCxnSpPr>
          <p:nvPr/>
        </p:nvCxnSpPr>
        <p:spPr>
          <a:xfrm flipV="1" rot="16200000">
            <a:off x="2484720" y="611280"/>
            <a:ext cx="454680" cy="1776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0" name=""/>
          <p:cNvSpPr/>
          <p:nvPr/>
        </p:nvSpPr>
        <p:spPr>
          <a:xfrm>
            <a:off x="5865840" y="397980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953400" y="28764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151760" y="2757600"/>
            <a:ext cx="1595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483440" y="2554200"/>
            <a:ext cx="25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location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831560" y="3110040"/>
            <a:ext cx="18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pertie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048440" y="3765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>
            <a:stCxn id="744" idx="0"/>
            <a:endCxn id="730" idx="2"/>
          </p:cNvCxnSpPr>
          <p:nvPr/>
        </p:nvCxnSpPr>
        <p:spPr>
          <a:xfrm flipV="1" rot="16200000">
            <a:off x="4887720" y="1496520"/>
            <a:ext cx="538920" cy="3970440"/>
          </a:xfrm>
          <a:prstGeom prst="bentConnector3">
            <a:avLst>
              <a:gd name="adj1" fmla="val 4979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5651640" y="4130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270480" y="44640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143920" y="4448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9" name=""/>
          <p:cNvCxnSpPr>
            <a:stCxn id="748" idx="4"/>
            <a:endCxn id="727" idx="3"/>
          </p:cNvCxnSpPr>
          <p:nvPr/>
        </p:nvCxnSpPr>
        <p:spPr>
          <a:xfrm rot="5400000">
            <a:off x="5742720" y="3412800"/>
            <a:ext cx="1258200" cy="373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50" name=""/>
          <p:cNvCxnSpPr>
            <a:stCxn id="722" idx="3"/>
            <a:endCxn id="746" idx="2"/>
          </p:cNvCxnSpPr>
          <p:nvPr/>
        </p:nvCxnSpPr>
        <p:spPr>
          <a:xfrm>
            <a:off x="4300200" y="4223880"/>
            <a:ext cx="1337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1" name=""/>
          <p:cNvSpPr/>
          <p:nvPr/>
        </p:nvSpPr>
        <p:spPr>
          <a:xfrm>
            <a:off x="4450680" y="3840120"/>
            <a:ext cx="109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"/>
          <p:cNvCxnSpPr>
            <a:stCxn id="747" idx="4"/>
            <a:endCxn id="727" idx="0"/>
          </p:cNvCxnSpPr>
          <p:nvPr/>
        </p:nvCxnSpPr>
        <p:spPr>
          <a:xfrm rot="5400000">
            <a:off x="4260240" y="3576600"/>
            <a:ext cx="1015200" cy="3193200"/>
          </a:xfrm>
          <a:prstGeom prst="bentConnector3">
            <a:avLst>
              <a:gd name="adj1" fmla="val 4991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"/>
          <p:cNvSpPr/>
          <p:nvPr/>
        </p:nvSpPr>
        <p:spPr>
          <a:xfrm>
            <a:off x="3834000" y="4776840"/>
            <a:ext cx="21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_plane_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008680" y="5522760"/>
            <a:ext cx="26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ut_of_plane_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49280" y="1706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111240" y="2828880"/>
            <a:ext cx="8969400" cy="2833560"/>
            <a:chOff x="111240" y="2828880"/>
            <a:chExt cx="8969400" cy="2833560"/>
          </a:xfrm>
        </p:grpSpPr>
        <p:sp>
          <p:nvSpPr>
            <p:cNvPr id="757" name=""/>
            <p:cNvSpPr/>
            <p:nvPr/>
          </p:nvSpPr>
          <p:spPr>
            <a:xfrm>
              <a:off x="5803920" y="3927600"/>
              <a:ext cx="3276720" cy="1734840"/>
            </a:xfrm>
            <a:prstGeom prst="cloudCallout">
              <a:avLst>
                <a:gd name="adj1" fmla="val -26648"/>
                <a:gd name="adj2" fmla="val 1230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921040" y="2828880"/>
              <a:ext cx="3414600" cy="1746360"/>
            </a:xfrm>
            <a:prstGeom prst="cloudCallout">
              <a:avLst>
                <a:gd name="adj1" fmla="val -28055"/>
                <a:gd name="adj2" fmla="val -5453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11240" y="3916440"/>
              <a:ext cx="2970000" cy="1619280"/>
            </a:xfrm>
            <a:prstGeom prst="cloudCallout">
              <a:avLst>
                <a:gd name="adj1" fmla="val -4944"/>
                <a:gd name="adj2" fmla="val -144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0" name=""/>
            <p:cNvGrpSpPr/>
            <p:nvPr/>
          </p:nvGrpSpPr>
          <p:grpSpPr>
            <a:xfrm>
              <a:off x="2924280" y="3903840"/>
              <a:ext cx="3343320" cy="1126440"/>
              <a:chOff x="2924280" y="3903840"/>
              <a:chExt cx="3343320" cy="1126440"/>
            </a:xfrm>
          </p:grpSpPr>
          <p:sp>
            <p:nvSpPr>
              <p:cNvPr id="761" name=""/>
              <p:cNvSpPr/>
              <p:nvPr/>
            </p:nvSpPr>
            <p:spPr>
              <a:xfrm flipH="1" flipV="1">
                <a:off x="2924280" y="3989520"/>
                <a:ext cx="1573200" cy="939600"/>
              </a:xfrm>
              <a:custGeom>
                <a:avLst/>
                <a:gdLst>
                  <a:gd name="textAreaLeft" fmla="*/ 360 w 1573200"/>
                  <a:gd name="textAreaRight" fmla="*/ 1573920 w 1573200"/>
                  <a:gd name="textAreaTop" fmla="*/ 360 h 939600"/>
                  <a:gd name="textAreaBottom" fmla="*/ 940320 h 93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497" stAng="10800000" swAng="5400000"/>
                    <a:lnTo>
                      <a:pt x="12610" y="2663"/>
                    </a:lnTo>
                    <a:lnTo>
                      <a:pt x="12610" y="0"/>
                    </a:lnTo>
                    <a:lnTo>
                      <a:pt x="21600" y="6079"/>
                    </a:lnTo>
                    <a:lnTo>
                      <a:pt x="12610" y="12158"/>
                    </a:lnTo>
                    <a:lnTo>
                      <a:pt x="12610" y="9495"/>
                    </a:lnTo>
                    <a:lnTo>
                      <a:pt x="12427" y="9495"/>
                    </a:lnTo>
                    <a:arcTo wR="5595" hR="2665" stAng="16200000" swAng="-5400000"/>
                    <a:lnTo>
                      <a:pt x="6832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4633920" y="3917160"/>
                <a:ext cx="1633680" cy="1112760"/>
              </a:xfrm>
              <a:custGeom>
                <a:avLst/>
                <a:gdLst>
                  <a:gd name="textAreaLeft" fmla="*/ 0 w 1633680"/>
                  <a:gd name="textAreaRight" fmla="*/ 1634040 w 1633680"/>
                  <a:gd name="textAreaTop" fmla="*/ 0 h 1112760"/>
                  <a:gd name="textAreaBottom" fmla="*/ 1112760 h 11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357" stAng="10800000" swAng="5400000"/>
                    <a:lnTo>
                      <a:pt x="16289" y="2803"/>
                    </a:lnTo>
                    <a:lnTo>
                      <a:pt x="16289" y="0"/>
                    </a:lnTo>
                    <a:lnTo>
                      <a:pt x="21600" y="6079"/>
                    </a:lnTo>
                    <a:lnTo>
                      <a:pt x="16289" y="12158"/>
                    </a:lnTo>
                    <a:lnTo>
                      <a:pt x="16289" y="9355"/>
                    </a:lnTo>
                    <a:lnTo>
                      <a:pt x="12427" y="9355"/>
                    </a:lnTo>
                    <a:arcTo wR="5875" hR="2805" stAng="16200000" swAng="-5400000"/>
                    <a:lnTo>
                      <a:pt x="6552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761640" y="3903840"/>
                <a:ext cx="14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800" spc="-1" strike="noStrike">
                    <a:solidFill>
                      <a:srgbClr val="ff3300"/>
                    </a:solidFill>
                    <a:latin typeface="Times New Roman"/>
                  </a:rPr>
                  <a:t>WHER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Represen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151080" y="347184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627360" y="1386000"/>
            <a:ext cx="19447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246720" y="2408400"/>
            <a:ext cx="25956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8360" y="2503440"/>
            <a:ext cx="291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508640" y="32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66" idx="2"/>
            <a:endCxn id="769" idx="0"/>
          </p:cNvCxnSpPr>
          <p:nvPr/>
        </p:nvCxnSpPr>
        <p:spPr>
          <a:xfrm flipH="1" rot="16200000">
            <a:off x="3906720" y="2518200"/>
            <a:ext cx="1388160" cy="2520"/>
          </a:xfrm>
          <a:prstGeom prst="bentConnector3">
            <a:avLst>
              <a:gd name="adj1" fmla="val 5045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71" name=""/>
          <p:cNvSpPr/>
          <p:nvPr/>
        </p:nvSpPr>
        <p:spPr>
          <a:xfrm>
            <a:off x="1542960" y="229068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545480" y="11890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"/>
          <p:cNvCxnSpPr>
            <a:stCxn id="766" idx="1"/>
            <a:endCxn id="771" idx="0"/>
          </p:cNvCxnSpPr>
          <p:nvPr/>
        </p:nvCxnSpPr>
        <p:spPr>
          <a:xfrm flipV="1" rot="10800000">
            <a:off x="1635840" y="1597680"/>
            <a:ext cx="1977480" cy="67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4" name=""/>
          <p:cNvSpPr/>
          <p:nvPr/>
        </p:nvSpPr>
        <p:spPr>
          <a:xfrm>
            <a:off x="7432560" y="2195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5" name=""/>
          <p:cNvCxnSpPr>
            <a:stCxn id="766" idx="3"/>
            <a:endCxn id="774" idx="0"/>
          </p:cNvCxnSpPr>
          <p:nvPr/>
        </p:nvCxnSpPr>
        <p:spPr>
          <a:xfrm>
            <a:off x="5586480" y="1598760"/>
            <a:ext cx="1940400" cy="583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6" name=""/>
          <p:cNvSpPr/>
          <p:nvPr/>
        </p:nvSpPr>
        <p:spPr>
          <a:xfrm>
            <a:off x="5846400" y="11890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310440" y="429732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36680" y="4297320"/>
            <a:ext cx="23572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58800" y="40845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0" name=""/>
          <p:cNvCxnSpPr>
            <a:stCxn id="768" idx="2"/>
            <a:endCxn id="779" idx="0"/>
          </p:cNvCxnSpPr>
          <p:nvPr/>
        </p:nvCxnSpPr>
        <p:spPr>
          <a:xfrm rot="5400000">
            <a:off x="1097280" y="3497760"/>
            <a:ext cx="1113120" cy="3600"/>
          </a:xfrm>
          <a:prstGeom prst="bentConnector3">
            <a:avLst>
              <a:gd name="adj1" fmla="val 506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1" name=""/>
          <p:cNvSpPr/>
          <p:nvPr/>
        </p:nvSpPr>
        <p:spPr>
          <a:xfrm>
            <a:off x="7448400" y="4068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2" name=""/>
          <p:cNvCxnSpPr>
            <a:stCxn id="767" idx="2"/>
            <a:endCxn id="781" idx="0"/>
          </p:cNvCxnSpPr>
          <p:nvPr/>
        </p:nvCxnSpPr>
        <p:spPr>
          <a:xfrm rot="5400000">
            <a:off x="6947280" y="3442680"/>
            <a:ext cx="1192680" cy="3600"/>
          </a:xfrm>
          <a:prstGeom prst="bentConnector3">
            <a:avLst>
              <a:gd name="adj1" fmla="val 50603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5" name=""/>
          <p:cNvCxnSpPr>
            <a:stCxn id="786" idx="2"/>
            <a:endCxn id="787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88" name=""/>
          <p:cNvGrpSpPr/>
          <p:nvPr/>
        </p:nvGrpSpPr>
        <p:grpSpPr>
          <a:xfrm>
            <a:off x="1571760" y="4468680"/>
            <a:ext cx="2857320" cy="397440"/>
            <a:chOff x="1571760" y="4468680"/>
            <a:chExt cx="2857320" cy="397440"/>
          </a:xfrm>
        </p:grpSpPr>
        <p:sp>
          <p:nvSpPr>
            <p:cNvPr id="789" name=""/>
            <p:cNvSpPr/>
            <p:nvPr/>
          </p:nvSpPr>
          <p:spPr>
            <a:xfrm>
              <a:off x="1785960" y="4468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streng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571760" y="46195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1571760" y="2583000"/>
            <a:ext cx="2857320" cy="397440"/>
            <a:chOff x="1571760" y="2583000"/>
            <a:chExt cx="2857320" cy="397440"/>
          </a:xfrm>
        </p:grpSpPr>
        <p:sp>
          <p:nvSpPr>
            <p:cNvPr id="792" name=""/>
            <p:cNvSpPr/>
            <p:nvPr/>
          </p:nvSpPr>
          <p:spPr>
            <a:xfrm>
              <a:off x="1785960" y="258300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elasti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571760" y="2717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3" name=""/>
          <p:cNvCxnSpPr>
            <a:stCxn id="786" idx="2"/>
            <a:endCxn id="794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95" name=""/>
          <p:cNvCxnSpPr>
            <a:stCxn id="786" idx="2"/>
            <a:endCxn id="796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97" name=""/>
          <p:cNvCxnSpPr>
            <a:stCxn id="786" idx="2"/>
            <a:endCxn id="790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6" name="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571760" y="3211560"/>
            <a:ext cx="3126960" cy="397440"/>
            <a:chOff x="1571760" y="3211560"/>
            <a:chExt cx="3126960" cy="397440"/>
          </a:xfrm>
        </p:grpSpPr>
        <p:sp>
          <p:nvSpPr>
            <p:cNvPr id="799" name=""/>
            <p:cNvSpPr/>
            <p:nvPr/>
          </p:nvSpPr>
          <p:spPr>
            <a:xfrm>
              <a:off x="1814400" y="3211560"/>
              <a:ext cx="2884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mass_den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571760" y="3346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1571760" y="5726160"/>
            <a:ext cx="2856960" cy="397440"/>
            <a:chOff x="1571760" y="5726160"/>
            <a:chExt cx="2856960" cy="397440"/>
          </a:xfrm>
        </p:grpSpPr>
        <p:sp>
          <p:nvSpPr>
            <p:cNvPr id="801" name=""/>
            <p:cNvSpPr/>
            <p:nvPr/>
          </p:nvSpPr>
          <p:spPr>
            <a:xfrm>
              <a:off x="1785600" y="572616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ough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571760" y="586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1571760" y="5097600"/>
            <a:ext cx="2856960" cy="397440"/>
            <a:chOff x="1571760" y="5097600"/>
            <a:chExt cx="2856960" cy="397440"/>
          </a:xfrm>
        </p:grpSpPr>
        <p:sp>
          <p:nvSpPr>
            <p:cNvPr id="804" name=""/>
            <p:cNvSpPr/>
            <p:nvPr/>
          </p:nvSpPr>
          <p:spPr>
            <a:xfrm>
              <a:off x="1785960" y="5097600"/>
              <a:ext cx="264276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hard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571760" y="5232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1571760" y="3840120"/>
            <a:ext cx="3857040" cy="397440"/>
            <a:chOff x="1571760" y="3840120"/>
            <a:chExt cx="3857040" cy="397440"/>
          </a:xfrm>
        </p:grpSpPr>
        <p:sp>
          <p:nvSpPr>
            <p:cNvPr id="807" name=""/>
            <p:cNvSpPr/>
            <p:nvPr/>
          </p:nvSpPr>
          <p:spPr>
            <a:xfrm>
              <a:off x="1787400" y="3840120"/>
              <a:ext cx="3641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hermal_expan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57176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8" name=""/>
          <p:cNvCxnSpPr>
            <a:stCxn id="786" idx="2"/>
            <a:endCxn id="805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9" name=""/>
          <p:cNvCxnSpPr>
            <a:stCxn id="786" idx="2"/>
            <a:endCxn id="802" idx="2"/>
          </p:cNvCxnSpPr>
          <p:nvPr/>
        </p:nvCxnSpPr>
        <p:spPr>
          <a:xfrm flipH="1" rot="16200000">
            <a:off x="-956520" y="3456000"/>
            <a:ext cx="42408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0" name="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y Contex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erty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3" name=""/>
          <p:cNvCxnSpPr>
            <a:stCxn id="814" idx="2"/>
            <a:endCxn id="815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6" name=""/>
          <p:cNvSpPr/>
          <p:nvPr/>
        </p:nvSpPr>
        <p:spPr>
          <a:xfrm>
            <a:off x="1785960" y="4468680"/>
            <a:ext cx="4659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st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571760" y="46195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785960" y="2583000"/>
            <a:ext cx="47386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571760" y="271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9" name=""/>
          <p:cNvCxnSpPr>
            <a:stCxn id="814" idx="2"/>
            <a:endCxn id="820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1" name=""/>
          <p:cNvCxnSpPr>
            <a:stCxn id="814" idx="2"/>
            <a:endCxn id="822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3" name=""/>
          <p:cNvCxnSpPr>
            <a:stCxn id="814" idx="2"/>
            <a:endCxn id="817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4" name="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814400" y="3211560"/>
            <a:ext cx="4678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lo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571760" y="3346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785960" y="5097600"/>
            <a:ext cx="46753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571760" y="5232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787400" y="3840120"/>
            <a:ext cx="4705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st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571760" y="3959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8" name=""/>
          <p:cNvCxnSpPr>
            <a:stCxn id="814" idx="2"/>
            <a:endCxn id="826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9" name="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MATERIAL_ISOTROPIC (11, 'my material', 'some steel', #2);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MATERIAL_REPRESENTATION ('my material rep',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MATERIAL_ELASTICITY ('my elasticity', 0.3, 2.1000000E8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NAMED_UNIT(*) PRESSURE_UNIT() SI_UNIT(.KILO.,.PASCAL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(GLOBAL_UNIT_ASSIGNED_CONTEXT((#6, #7)) MATERIAL_PROPERTY_CONTEXT() MATERIAL_PROPERTY_CONTEXT_DIMENSIONAL(0.0, 100.0) REPRESENTATION_CONTEXT ('ID', 'text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834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2276640" y="4427640"/>
            <a:ext cx="2981160" cy="398880"/>
            <a:chOff x="2276640" y="4427640"/>
            <a:chExt cx="2981160" cy="398880"/>
          </a:xfrm>
        </p:grpSpPr>
        <p:sp>
          <p:nvSpPr>
            <p:cNvPr id="838" name=""/>
            <p:cNvSpPr/>
            <p:nvPr/>
          </p:nvSpPr>
          <p:spPr>
            <a:xfrm>
              <a:off x="2513880" y="4427640"/>
              <a:ext cx="274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hem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276640" y="45594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0" name=""/>
          <p:cNvCxnSpPr>
            <a:stCxn id="841" idx="2"/>
            <a:endCxn id="839" idx="2"/>
          </p:cNvCxnSpPr>
          <p:nvPr/>
        </p:nvCxnSpPr>
        <p:spPr>
          <a:xfrm flipH="1" rot="16200000">
            <a:off x="1096920" y="3501720"/>
            <a:ext cx="189936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2" name=""/>
          <p:cNvCxnSpPr>
            <a:stCxn id="841" idx="2"/>
            <a:endCxn id="843" idx="2"/>
          </p:cNvCxnSpPr>
          <p:nvPr/>
        </p:nvCxnSpPr>
        <p:spPr>
          <a:xfrm flipH="1" rot="16200000">
            <a:off x="1710360" y="2887920"/>
            <a:ext cx="6721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4" name=""/>
          <p:cNvSpPr/>
          <p:nvPr/>
        </p:nvSpPr>
        <p:spPr>
          <a:xfrm>
            <a:off x="1423800" y="3114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2276640" y="3171960"/>
            <a:ext cx="2925000" cy="412920"/>
            <a:chOff x="2276640" y="3171960"/>
            <a:chExt cx="2925000" cy="412920"/>
          </a:xfrm>
        </p:grpSpPr>
        <p:sp>
          <p:nvSpPr>
            <p:cNvPr id="846" name=""/>
            <p:cNvSpPr/>
            <p:nvPr/>
          </p:nvSpPr>
          <p:spPr>
            <a:xfrm>
              <a:off x="2513880" y="3186000"/>
              <a:ext cx="2687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276640" y="333216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401000" y="3171960"/>
              <a:ext cx="15876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2276640" y="5048280"/>
            <a:ext cx="3250440" cy="398880"/>
            <a:chOff x="2276640" y="5048280"/>
            <a:chExt cx="3250440" cy="398880"/>
          </a:xfrm>
        </p:grpSpPr>
        <p:sp>
          <p:nvSpPr>
            <p:cNvPr id="849" name=""/>
            <p:cNvSpPr/>
            <p:nvPr/>
          </p:nvSpPr>
          <p:spPr>
            <a:xfrm>
              <a:off x="2499480" y="50482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276640" y="5180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1" name=""/>
          <p:cNvCxnSpPr>
            <a:stCxn id="841" idx="2"/>
            <a:endCxn id="850" idx="2"/>
          </p:cNvCxnSpPr>
          <p:nvPr/>
        </p:nvCxnSpPr>
        <p:spPr>
          <a:xfrm flipH="1" rot="16200000">
            <a:off x="786600" y="3812040"/>
            <a:ext cx="25200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52" name=""/>
          <p:cNvGrpSpPr/>
          <p:nvPr/>
        </p:nvGrpSpPr>
        <p:grpSpPr>
          <a:xfrm>
            <a:off x="2276640" y="3807000"/>
            <a:ext cx="3249720" cy="398880"/>
            <a:chOff x="2276640" y="3807000"/>
            <a:chExt cx="3249720" cy="398880"/>
          </a:xfrm>
        </p:grpSpPr>
        <p:sp>
          <p:nvSpPr>
            <p:cNvPr id="853" name=""/>
            <p:cNvSpPr/>
            <p:nvPr/>
          </p:nvSpPr>
          <p:spPr>
            <a:xfrm>
              <a:off x="2512440" y="3807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amorpho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276640" y="39384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5" name=""/>
          <p:cNvCxnSpPr>
            <a:stCxn id="841" idx="2"/>
            <a:endCxn id="854" idx="2"/>
          </p:cNvCxnSpPr>
          <p:nvPr/>
        </p:nvCxnSpPr>
        <p:spPr>
          <a:xfrm flipH="1" rot="16200000">
            <a:off x="1407240" y="3191400"/>
            <a:ext cx="12787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6" name="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496280" y="4227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793480" y="5664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786040" y="2479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0" name=""/>
          <p:cNvCxnSpPr>
            <a:stCxn id="846" idx="0"/>
            <a:endCxn id="859" idx="6"/>
          </p:cNvCxnSpPr>
          <p:nvPr/>
        </p:nvCxnSpPr>
        <p:spPr>
          <a:xfrm flipV="1" rot="16200000">
            <a:off x="3122640" y="2436840"/>
            <a:ext cx="599400" cy="870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61" name=""/>
          <p:cNvSpPr/>
          <p:nvPr/>
        </p:nvSpPr>
        <p:spPr>
          <a:xfrm>
            <a:off x="6306840" y="4440240"/>
            <a:ext cx="263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mical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912960" y="200988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730520" y="1781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3" name=""/>
          <p:cNvCxnSpPr>
            <a:stCxn id="856" idx="2"/>
            <a:endCxn id="862" idx="0"/>
          </p:cNvCxnSpPr>
          <p:nvPr/>
        </p:nvCxnSpPr>
        <p:spPr>
          <a:xfrm flipH="1" rot="16200000">
            <a:off x="1696320" y="1625400"/>
            <a:ext cx="250920" cy="3960"/>
          </a:xfrm>
          <a:prstGeom prst="bentConnector3">
            <a:avLst>
              <a:gd name="adj1" fmla="val 5258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64" name="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2276640" y="5668920"/>
            <a:ext cx="2769840" cy="398880"/>
            <a:chOff x="2276640" y="5668920"/>
            <a:chExt cx="2769840" cy="398880"/>
          </a:xfrm>
        </p:grpSpPr>
        <p:sp>
          <p:nvSpPr>
            <p:cNvPr id="866" name=""/>
            <p:cNvSpPr/>
            <p:nvPr/>
          </p:nvSpPr>
          <p:spPr>
            <a:xfrm>
              <a:off x="2500560" y="5668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276640" y="5800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8" name=""/>
          <p:cNvCxnSpPr>
            <a:stCxn id="841" idx="2"/>
            <a:endCxn id="867" idx="2"/>
          </p:cNvCxnSpPr>
          <p:nvPr/>
        </p:nvCxnSpPr>
        <p:spPr>
          <a:xfrm flipH="1" rot="16200000">
            <a:off x="476280" y="4122360"/>
            <a:ext cx="314064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9" name=""/>
          <p:cNvSpPr/>
          <p:nvPr/>
        </p:nvSpPr>
        <p:spPr>
          <a:xfrm>
            <a:off x="6313680" y="504504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87960" y="5178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1" name=""/>
          <p:cNvCxnSpPr>
            <a:stCxn id="849" idx="3"/>
            <a:endCxn id="870" idx="2"/>
          </p:cNvCxnSpPr>
          <p:nvPr/>
        </p:nvCxnSpPr>
        <p:spPr>
          <a:xfrm>
            <a:off x="5552640" y="5260680"/>
            <a:ext cx="5216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2" name=""/>
          <p:cNvSpPr/>
          <p:nvPr/>
        </p:nvSpPr>
        <p:spPr>
          <a:xfrm>
            <a:off x="5564160" y="5781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3" name=""/>
          <p:cNvCxnSpPr>
            <a:stCxn id="866" idx="3"/>
            <a:endCxn id="872" idx="2"/>
          </p:cNvCxnSpPr>
          <p:nvPr/>
        </p:nvCxnSpPr>
        <p:spPr>
          <a:xfrm flipV="1">
            <a:off x="5073120" y="5874840"/>
            <a:ext cx="4770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4" name=""/>
          <p:cNvSpPr/>
          <p:nvPr/>
        </p:nvSpPr>
        <p:spPr>
          <a:xfrm>
            <a:off x="6087960" y="4559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5" name=""/>
          <p:cNvCxnSpPr>
            <a:stCxn id="838" idx="3"/>
            <a:endCxn id="874" idx="2"/>
          </p:cNvCxnSpPr>
          <p:nvPr/>
        </p:nvCxnSpPr>
        <p:spPr>
          <a:xfrm>
            <a:off x="5284800" y="4640040"/>
            <a:ext cx="7898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6" name=""/>
          <p:cNvCxnSpPr>
            <a:stCxn id="857" idx="0"/>
            <a:endCxn id="853" idx="3"/>
          </p:cNvCxnSpPr>
          <p:nvPr/>
        </p:nvCxnSpPr>
        <p:spPr>
          <a:xfrm flipV="1" rot="16200000">
            <a:off x="6473520" y="3096360"/>
            <a:ext cx="194400" cy="2039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7" name=""/>
          <p:cNvCxnSpPr>
            <a:endCxn id="878" idx="2"/>
          </p:cNvCxnSpPr>
          <p:nvPr/>
        </p:nvCxnSpPr>
        <p:spPr>
          <a:xfrm flipV="1">
            <a:off x="2790360" y="2207880"/>
            <a:ext cx="2745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9" name=""/>
          <p:cNvSpPr/>
          <p:nvPr/>
        </p:nvSpPr>
        <p:spPr>
          <a:xfrm>
            <a:off x="3193200" y="1860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5549760" y="1979640"/>
            <a:ext cx="2074320" cy="374400"/>
            <a:chOff x="5549760" y="1979640"/>
            <a:chExt cx="2074320" cy="374400"/>
          </a:xfrm>
        </p:grpSpPr>
        <p:sp>
          <p:nvSpPr>
            <p:cNvPr id="878" name=""/>
            <p:cNvSpPr/>
            <p:nvPr/>
          </p:nvSpPr>
          <p:spPr>
            <a:xfrm>
              <a:off x="5549760" y="213192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35160" y="198288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7508160" y="19796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elded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82320" y="2235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09600" y="105732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673280" y="2239920"/>
            <a:ext cx="2769840" cy="398880"/>
            <a:chOff x="1673280" y="2239920"/>
            <a:chExt cx="2769840" cy="398880"/>
          </a:xfrm>
        </p:grpSpPr>
        <p:sp>
          <p:nvSpPr>
            <p:cNvPr id="887" name=""/>
            <p:cNvSpPr/>
            <p:nvPr/>
          </p:nvSpPr>
          <p:spPr>
            <a:xfrm>
              <a:off x="1897200" y="2239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673280" y="2371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6453360" y="2352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0" name=""/>
          <p:cNvCxnSpPr>
            <a:stCxn id="887" idx="3"/>
            <a:endCxn id="889" idx="2"/>
          </p:cNvCxnSpPr>
          <p:nvPr/>
        </p:nvCxnSpPr>
        <p:spPr>
          <a:xfrm flipV="1">
            <a:off x="4470480" y="2445840"/>
            <a:ext cx="19692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1" name=""/>
          <p:cNvCxnSpPr>
            <a:stCxn id="885" idx="2"/>
            <a:endCxn id="888" idx="2"/>
          </p:cNvCxnSpPr>
          <p:nvPr/>
        </p:nvCxnSpPr>
        <p:spPr>
          <a:xfrm flipH="1" rot="16200000">
            <a:off x="1110960" y="1931400"/>
            <a:ext cx="6642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2" name=""/>
          <p:cNvSpPr/>
          <p:nvPr/>
        </p:nvSpPr>
        <p:spPr>
          <a:xfrm>
            <a:off x="1915920" y="2749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2768760" y="3430440"/>
            <a:ext cx="3534120" cy="398880"/>
            <a:chOff x="2768760" y="3430440"/>
            <a:chExt cx="3534120" cy="398880"/>
          </a:xfrm>
        </p:grpSpPr>
        <p:sp>
          <p:nvSpPr>
            <p:cNvPr id="894" name=""/>
            <p:cNvSpPr/>
            <p:nvPr/>
          </p:nvSpPr>
          <p:spPr>
            <a:xfrm>
              <a:off x="2991960" y="3430440"/>
              <a:ext cx="331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lin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768760" y="3562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96" name=""/>
          <p:cNvCxnSpPr>
            <a:stCxn id="897" idx="2"/>
            <a:endCxn id="895" idx="2"/>
          </p:cNvCxnSpPr>
          <p:nvPr/>
        </p:nvCxnSpPr>
        <p:spPr>
          <a:xfrm flipH="1" rot="16200000">
            <a:off x="2062080" y="2977920"/>
            <a:ext cx="100584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7" name=""/>
          <p:cNvSpPr/>
          <p:nvPr/>
        </p:nvSpPr>
        <p:spPr>
          <a:xfrm>
            <a:off x="2238480" y="2428920"/>
            <a:ext cx="3016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2768760" y="4351320"/>
            <a:ext cx="3462120" cy="398880"/>
            <a:chOff x="2768760" y="4351320"/>
            <a:chExt cx="3462120" cy="398880"/>
          </a:xfrm>
        </p:grpSpPr>
        <p:sp>
          <p:nvSpPr>
            <p:cNvPr id="899" name=""/>
            <p:cNvSpPr/>
            <p:nvPr/>
          </p:nvSpPr>
          <p:spPr>
            <a:xfrm>
              <a:off x="2991600" y="4351320"/>
              <a:ext cx="323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768760" y="4483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2768760" y="5764320"/>
            <a:ext cx="3745440" cy="398880"/>
            <a:chOff x="2768760" y="5764320"/>
            <a:chExt cx="3745440" cy="398880"/>
          </a:xfrm>
        </p:grpSpPr>
        <p:sp>
          <p:nvSpPr>
            <p:cNvPr id="902" name=""/>
            <p:cNvSpPr/>
            <p:nvPr/>
          </p:nvSpPr>
          <p:spPr>
            <a:xfrm>
              <a:off x="2989800" y="5764320"/>
              <a:ext cx="352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768760" y="5896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4" name=""/>
          <p:cNvCxnSpPr>
            <a:stCxn id="897" idx="2"/>
            <a:endCxn id="900" idx="2"/>
          </p:cNvCxnSpPr>
          <p:nvPr/>
        </p:nvCxnSpPr>
        <p:spPr>
          <a:xfrm flipH="1" rot="16200000">
            <a:off x="1601640" y="3438000"/>
            <a:ext cx="1926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05" name=""/>
          <p:cNvCxnSpPr>
            <a:stCxn id="897" idx="2"/>
            <a:endCxn id="903" idx="2"/>
          </p:cNvCxnSpPr>
          <p:nvPr/>
        </p:nvCxnSpPr>
        <p:spPr>
          <a:xfrm flipH="1" rot="16200000">
            <a:off x="895320" y="4144680"/>
            <a:ext cx="3339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6" name=""/>
          <p:cNvSpPr/>
          <p:nvPr/>
        </p:nvSpPr>
        <p:spPr>
          <a:xfrm>
            <a:off x="4466520" y="2066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690240" y="287028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site_cur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469200" y="2987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9" name=""/>
          <p:cNvCxnSpPr>
            <a:stCxn id="899" idx="3"/>
            <a:endCxn id="910" idx="2"/>
          </p:cNvCxnSpPr>
          <p:nvPr/>
        </p:nvCxnSpPr>
        <p:spPr>
          <a:xfrm>
            <a:off x="6257520" y="4564080"/>
            <a:ext cx="15627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1" name=""/>
          <p:cNvSpPr/>
          <p:nvPr/>
        </p:nvSpPr>
        <p:spPr>
          <a:xfrm>
            <a:off x="4887720" y="27018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049960" y="436248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834320" y="4479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320520" y="4194000"/>
            <a:ext cx="156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4" name=""/>
          <p:cNvCxnSpPr>
            <a:stCxn id="894" idx="0"/>
            <a:endCxn id="908" idx="2"/>
          </p:cNvCxnSpPr>
          <p:nvPr/>
        </p:nvCxnSpPr>
        <p:spPr>
          <a:xfrm flipH="1" flipV="1" rot="5400000">
            <a:off x="5383800" y="2345040"/>
            <a:ext cx="335880" cy="1807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5" name=""/>
          <p:cNvSpPr/>
          <p:nvPr/>
        </p:nvSpPr>
        <p:spPr>
          <a:xfrm>
            <a:off x="6772680" y="520380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ed_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564240" y="53532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7" name=""/>
          <p:cNvCxnSpPr>
            <a:stCxn id="902" idx="0"/>
            <a:endCxn id="916" idx="2"/>
          </p:cNvCxnSpPr>
          <p:nvPr/>
        </p:nvCxnSpPr>
        <p:spPr>
          <a:xfrm flipH="1" flipV="1" rot="5400000">
            <a:off x="5499720" y="4699440"/>
            <a:ext cx="303840" cy="179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8" name=""/>
          <p:cNvSpPr/>
          <p:nvPr/>
        </p:nvSpPr>
        <p:spPr>
          <a:xfrm>
            <a:off x="4862520" y="50515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9" name=""/>
          <p:cNvCxnSpPr>
            <a:stCxn id="885" idx="3"/>
            <a:endCxn id="920" idx="2"/>
          </p:cNvCxnSpPr>
          <p:nvPr/>
        </p:nvCxnSpPr>
        <p:spPr>
          <a:xfrm>
            <a:off x="2187720" y="1422360"/>
            <a:ext cx="2808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21" name=""/>
          <p:cNvSpPr/>
          <p:nvPr/>
        </p:nvSpPr>
        <p:spPr>
          <a:xfrm>
            <a:off x="2653200" y="105084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5010120" y="1201680"/>
            <a:ext cx="2074320" cy="374400"/>
            <a:chOff x="5010120" y="1201680"/>
            <a:chExt cx="2074320" cy="374400"/>
          </a:xfrm>
        </p:grpSpPr>
        <p:sp>
          <p:nvSpPr>
            <p:cNvPr id="920" name=""/>
            <p:cNvSpPr/>
            <p:nvPr/>
          </p:nvSpPr>
          <p:spPr>
            <a:xfrm>
              <a:off x="5010120" y="135396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195520" y="12049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6968520" y="1201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chanical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883800" y="2082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1720800" y="2016000"/>
            <a:ext cx="3250440" cy="398880"/>
            <a:chOff x="1720800" y="2016000"/>
            <a:chExt cx="3250440" cy="398880"/>
          </a:xfrm>
        </p:grpSpPr>
        <p:sp>
          <p:nvSpPr>
            <p:cNvPr id="928" name=""/>
            <p:cNvSpPr/>
            <p:nvPr/>
          </p:nvSpPr>
          <p:spPr>
            <a:xfrm>
              <a:off x="1943640" y="20160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720800" y="21477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0" name=""/>
          <p:cNvCxnSpPr>
            <a:stCxn id="931" idx="2"/>
            <a:endCxn id="929" idx="2"/>
          </p:cNvCxnSpPr>
          <p:nvPr/>
        </p:nvCxnSpPr>
        <p:spPr>
          <a:xfrm flipH="1" rot="16200000">
            <a:off x="1239120" y="1788120"/>
            <a:ext cx="519840" cy="38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31" name=""/>
          <p:cNvSpPr/>
          <p:nvPr/>
        </p:nvSpPr>
        <p:spPr>
          <a:xfrm>
            <a:off x="372960" y="97776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185920" y="317196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37356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4" name=""/>
          <p:cNvCxnSpPr>
            <a:stCxn id="928" idx="2"/>
            <a:endCxn id="933" idx="0"/>
          </p:cNvCxnSpPr>
          <p:nvPr/>
        </p:nvCxnSpPr>
        <p:spPr>
          <a:xfrm>
            <a:off x="3457080" y="2455560"/>
            <a:ext cx="10440" cy="48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35" name=""/>
          <p:cNvCxnSpPr>
            <a:stCxn id="932" idx="3"/>
            <a:endCxn id="936" idx="2"/>
          </p:cNvCxnSpPr>
          <p:nvPr/>
        </p:nvCxnSpPr>
        <p:spPr>
          <a:xfrm>
            <a:off x="4757400" y="3384360"/>
            <a:ext cx="280908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7" name=""/>
          <p:cNvSpPr/>
          <p:nvPr/>
        </p:nvSpPr>
        <p:spPr>
          <a:xfrm>
            <a:off x="7795800" y="317196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580160" y="33051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227200" y="3019320"/>
            <a:ext cx="21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yout_points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521880" y="254304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923560" y="436248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373560" y="41464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2" name=""/>
          <p:cNvCxnSpPr>
            <a:stCxn id="932" idx="2"/>
            <a:endCxn id="941" idx="0"/>
          </p:cNvCxnSpPr>
          <p:nvPr/>
        </p:nvCxnSpPr>
        <p:spPr>
          <a:xfrm>
            <a:off x="3459240" y="3611160"/>
            <a:ext cx="8640" cy="521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3" name=""/>
          <p:cNvSpPr/>
          <p:nvPr/>
        </p:nvSpPr>
        <p:spPr>
          <a:xfrm>
            <a:off x="3476520" y="3749760"/>
            <a:ext cx="175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s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4" name=""/>
          <p:cNvCxnSpPr>
            <a:stCxn id="931" idx="3"/>
            <a:endCxn id="945" idx="2"/>
          </p:cNvCxnSpPr>
          <p:nvPr/>
        </p:nvCxnSpPr>
        <p:spPr>
          <a:xfrm flipV="1">
            <a:off x="2251080" y="1334880"/>
            <a:ext cx="27453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6" name=""/>
          <p:cNvSpPr/>
          <p:nvPr/>
        </p:nvSpPr>
        <p:spPr>
          <a:xfrm>
            <a:off x="2653200" y="987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5010120" y="1106280"/>
            <a:ext cx="2074320" cy="374040"/>
            <a:chOff x="5010120" y="1106280"/>
            <a:chExt cx="2074320" cy="374040"/>
          </a:xfrm>
        </p:grpSpPr>
        <p:sp>
          <p:nvSpPr>
            <p:cNvPr id="945" name=""/>
            <p:cNvSpPr/>
            <p:nvPr/>
          </p:nvSpPr>
          <p:spPr>
            <a:xfrm>
              <a:off x="5010120" y="1258560"/>
              <a:ext cx="18000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195520" y="11095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6968520" y="110628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862240" y="38606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296360" y="347652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439640" y="40356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2324160" y="4653000"/>
            <a:ext cx="2414880" cy="398880"/>
            <a:chOff x="2324160" y="4653000"/>
            <a:chExt cx="2414880" cy="398880"/>
          </a:xfrm>
        </p:grpSpPr>
        <p:sp>
          <p:nvSpPr>
            <p:cNvPr id="955" name=""/>
            <p:cNvSpPr/>
            <p:nvPr/>
          </p:nvSpPr>
          <p:spPr>
            <a:xfrm>
              <a:off x="2546640" y="4653000"/>
              <a:ext cx="2192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324160" y="4784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57" name=""/>
          <p:cNvCxnSpPr>
            <a:stCxn id="952" idx="2"/>
            <a:endCxn id="956" idx="2"/>
          </p:cNvCxnSpPr>
          <p:nvPr/>
        </p:nvCxnSpPr>
        <p:spPr>
          <a:xfrm flipH="1" rot="16200000">
            <a:off x="1589760" y="4173480"/>
            <a:ext cx="962640" cy="448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58" name=""/>
          <p:cNvGrpSpPr/>
          <p:nvPr/>
        </p:nvGrpSpPr>
        <p:grpSpPr>
          <a:xfrm>
            <a:off x="2340000" y="5467320"/>
            <a:ext cx="2217240" cy="398880"/>
            <a:chOff x="2340000" y="5467320"/>
            <a:chExt cx="2217240" cy="398880"/>
          </a:xfrm>
        </p:grpSpPr>
        <p:sp>
          <p:nvSpPr>
            <p:cNvPr id="959" name=""/>
            <p:cNvSpPr/>
            <p:nvPr/>
          </p:nvSpPr>
          <p:spPr>
            <a:xfrm>
              <a:off x="2578320" y="546732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40000" y="5599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1" name=""/>
          <p:cNvCxnSpPr>
            <a:stCxn id="952" idx="2"/>
            <a:endCxn id="960" idx="2"/>
          </p:cNvCxnSpPr>
          <p:nvPr/>
        </p:nvCxnSpPr>
        <p:spPr>
          <a:xfrm flipH="1" rot="16200000">
            <a:off x="1191600" y="4572360"/>
            <a:ext cx="177696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62" name="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765840" y="1211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904720" y="15526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5135400" y="2266920"/>
            <a:ext cx="3232440" cy="703800"/>
            <a:chOff x="5135400" y="2266920"/>
            <a:chExt cx="3232440" cy="703800"/>
          </a:xfrm>
        </p:grpSpPr>
        <p:sp>
          <p:nvSpPr>
            <p:cNvPr id="966" name=""/>
            <p:cNvSpPr/>
            <p:nvPr/>
          </p:nvSpPr>
          <p:spPr>
            <a:xfrm>
              <a:off x="5353920" y="226692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135400" y="25434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8" name=""/>
          <p:cNvCxnSpPr>
            <a:stCxn id="969" idx="3"/>
            <a:endCxn id="967" idx="2"/>
          </p:cNvCxnSpPr>
          <p:nvPr/>
        </p:nvCxnSpPr>
        <p:spPr>
          <a:xfrm>
            <a:off x="3411360" y="2634840"/>
            <a:ext cx="1696320" cy="2520"/>
          </a:xfrm>
          <a:prstGeom prst="bentConnector3">
            <a:avLst>
              <a:gd name="adj1" fmla="val 5037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0" name=""/>
          <p:cNvSpPr/>
          <p:nvPr/>
        </p:nvSpPr>
        <p:spPr>
          <a:xfrm>
            <a:off x="6325200" y="773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77920" y="24224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730520" y="2193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2" name=""/>
          <p:cNvCxnSpPr>
            <a:stCxn id="962" idx="2"/>
            <a:endCxn id="971" idx="0"/>
          </p:cNvCxnSpPr>
          <p:nvPr/>
        </p:nvCxnSpPr>
        <p:spPr>
          <a:xfrm flipH="1" rot="16200000">
            <a:off x="1489680" y="1831680"/>
            <a:ext cx="664200" cy="396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73" name=""/>
          <p:cNvCxnSpPr>
            <a:stCxn id="966" idx="0"/>
            <a:endCxn id="963" idx="4"/>
          </p:cNvCxnSpPr>
          <p:nvPr/>
        </p:nvCxnSpPr>
        <p:spPr>
          <a:xfrm flipH="1" flipV="1">
            <a:off x="6858720" y="1412640"/>
            <a:ext cx="2520" cy="840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4" name="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5" name=""/>
          <p:cNvCxnSpPr>
            <a:stCxn id="969" idx="2"/>
            <a:endCxn id="976" idx="0"/>
          </p:cNvCxnSpPr>
          <p:nvPr/>
        </p:nvCxnSpPr>
        <p:spPr>
          <a:xfrm flipH="1" rot="16200000">
            <a:off x="1647000" y="3052440"/>
            <a:ext cx="383040" cy="2520"/>
          </a:xfrm>
          <a:prstGeom prst="bentConnector3">
            <a:avLst>
              <a:gd name="adj1" fmla="val 5183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7" name=""/>
          <p:cNvSpPr/>
          <p:nvPr/>
        </p:nvSpPr>
        <p:spPr>
          <a:xfrm>
            <a:off x="176220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74636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366800" y="34876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146480" y="35971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473560" y="331308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g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1" name=""/>
          <p:cNvCxnSpPr>
            <a:stCxn id="979" idx="2"/>
            <a:endCxn id="952" idx="3"/>
          </p:cNvCxnSpPr>
          <p:nvPr/>
        </p:nvCxnSpPr>
        <p:spPr>
          <a:xfrm rot="10800000">
            <a:off x="2424960" y="3688560"/>
            <a:ext cx="1707480" cy="2520"/>
          </a:xfrm>
          <a:prstGeom prst="bentConnector3">
            <a:avLst>
              <a:gd name="adj1" fmla="val 499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82" name=""/>
          <p:cNvSpPr/>
          <p:nvPr/>
        </p:nvSpPr>
        <p:spPr>
          <a:xfrm>
            <a:off x="7083360" y="43117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092920" y="44719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4" name=""/>
          <p:cNvCxnSpPr>
            <a:stCxn id="982" idx="4"/>
            <a:endCxn id="955" idx="3"/>
          </p:cNvCxnSpPr>
          <p:nvPr/>
        </p:nvCxnSpPr>
        <p:spPr>
          <a:xfrm rot="5400000">
            <a:off x="5794560" y="3483720"/>
            <a:ext cx="353160" cy="2412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867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sign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27720" y="204300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09680" y="984240"/>
            <a:ext cx="1978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931680" y="16383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1784520" y="2001960"/>
            <a:ext cx="2754360" cy="398880"/>
            <a:chOff x="1784520" y="2001960"/>
            <a:chExt cx="2754360" cy="398880"/>
          </a:xfrm>
        </p:grpSpPr>
        <p:sp>
          <p:nvSpPr>
            <p:cNvPr id="989" name=""/>
            <p:cNvSpPr/>
            <p:nvPr/>
          </p:nvSpPr>
          <p:spPr>
            <a:xfrm>
              <a:off x="2008080" y="2001960"/>
              <a:ext cx="2530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bo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784520" y="21333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1" name=""/>
          <p:cNvCxnSpPr>
            <a:stCxn id="986" idx="2"/>
            <a:endCxn id="990" idx="2"/>
          </p:cNvCxnSpPr>
          <p:nvPr/>
        </p:nvCxnSpPr>
        <p:spPr>
          <a:xfrm flipH="1" rot="16200000">
            <a:off x="1176120" y="1647360"/>
            <a:ext cx="80388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92" name=""/>
          <p:cNvGrpSpPr/>
          <p:nvPr/>
        </p:nvGrpSpPr>
        <p:grpSpPr>
          <a:xfrm>
            <a:off x="1784520" y="3059280"/>
            <a:ext cx="3179880" cy="398880"/>
            <a:chOff x="1784520" y="3059280"/>
            <a:chExt cx="3179880" cy="398880"/>
          </a:xfrm>
        </p:grpSpPr>
        <p:sp>
          <p:nvSpPr>
            <p:cNvPr id="993" name=""/>
            <p:cNvSpPr/>
            <p:nvPr/>
          </p:nvSpPr>
          <p:spPr>
            <a:xfrm>
              <a:off x="2020680" y="30592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was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784520" y="3190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5" name=""/>
          <p:cNvCxnSpPr>
            <a:stCxn id="986" idx="2"/>
            <a:endCxn id="994" idx="2"/>
          </p:cNvCxnSpPr>
          <p:nvPr/>
        </p:nvCxnSpPr>
        <p:spPr>
          <a:xfrm flipH="1" rot="16200000">
            <a:off x="647640" y="2176200"/>
            <a:ext cx="186120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6" name=""/>
          <p:cNvSpPr/>
          <p:nvPr/>
        </p:nvSpPr>
        <p:spPr>
          <a:xfrm>
            <a:off x="4591080" y="1104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569680" y="820800"/>
            <a:ext cx="19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dia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96" idx="2"/>
            <a:endCxn id="986" idx="3"/>
          </p:cNvCxnSpPr>
          <p:nvPr/>
        </p:nvCxnSpPr>
        <p:spPr>
          <a:xfrm rot="10800000">
            <a:off x="2415600" y="1196280"/>
            <a:ext cx="2161080" cy="2160"/>
          </a:xfrm>
          <a:prstGeom prst="bentConnector3">
            <a:avLst>
              <a:gd name="adj1" fmla="val 499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4818240" y="104940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594320" y="15937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1" name=""/>
          <p:cNvCxnSpPr>
            <a:stCxn id="1000" idx="2"/>
            <a:endCxn id="1002" idx="2"/>
          </p:cNvCxnSpPr>
          <p:nvPr/>
        </p:nvCxnSpPr>
        <p:spPr>
          <a:xfrm rot="10800000">
            <a:off x="1896480" y="1396440"/>
            <a:ext cx="2683440" cy="291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3" name=""/>
          <p:cNvSpPr/>
          <p:nvPr/>
        </p:nvSpPr>
        <p:spPr>
          <a:xfrm>
            <a:off x="2633400" y="13129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778040" y="1174680"/>
            <a:ext cx="2379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1784520" y="2530440"/>
            <a:ext cx="2697120" cy="398880"/>
            <a:chOff x="1784520" y="2530440"/>
            <a:chExt cx="2697120" cy="398880"/>
          </a:xfrm>
        </p:grpSpPr>
        <p:sp>
          <p:nvSpPr>
            <p:cNvPr id="1005" name=""/>
            <p:cNvSpPr/>
            <p:nvPr/>
          </p:nvSpPr>
          <p:spPr>
            <a:xfrm>
              <a:off x="2007360" y="2530440"/>
              <a:ext cx="247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784520" y="2662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1784520" y="3587760"/>
            <a:ext cx="2838960" cy="398880"/>
            <a:chOff x="1784520" y="3587760"/>
            <a:chExt cx="2838960" cy="398880"/>
          </a:xfrm>
        </p:grpSpPr>
        <p:sp>
          <p:nvSpPr>
            <p:cNvPr id="1008" name=""/>
            <p:cNvSpPr/>
            <p:nvPr/>
          </p:nvSpPr>
          <p:spPr>
            <a:xfrm>
              <a:off x="2021040" y="3587760"/>
              <a:ext cx="2602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tu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784520" y="371952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1784520" y="4118040"/>
            <a:ext cx="2755440" cy="398880"/>
            <a:chOff x="1784520" y="4118040"/>
            <a:chExt cx="2755440" cy="398880"/>
          </a:xfrm>
        </p:grpSpPr>
        <p:sp>
          <p:nvSpPr>
            <p:cNvPr id="1011" name=""/>
            <p:cNvSpPr/>
            <p:nvPr/>
          </p:nvSpPr>
          <p:spPr>
            <a:xfrm>
              <a:off x="2022840" y="4118040"/>
              <a:ext cx="2517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a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784520" y="424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1784520" y="4646520"/>
            <a:ext cx="2698200" cy="398880"/>
            <a:chOff x="1784520" y="4646520"/>
            <a:chExt cx="2698200" cy="398880"/>
          </a:xfrm>
        </p:grpSpPr>
        <p:sp>
          <p:nvSpPr>
            <p:cNvPr id="1014" name=""/>
            <p:cNvSpPr/>
            <p:nvPr/>
          </p:nvSpPr>
          <p:spPr>
            <a:xfrm>
              <a:off x="2022120" y="464652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p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784520" y="47782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784520" y="5175360"/>
            <a:ext cx="3024360" cy="398880"/>
            <a:chOff x="1784520" y="5175360"/>
            <a:chExt cx="3024360" cy="398880"/>
          </a:xfrm>
        </p:grpSpPr>
        <p:sp>
          <p:nvSpPr>
            <p:cNvPr id="1017" name=""/>
            <p:cNvSpPr/>
            <p:nvPr/>
          </p:nvSpPr>
          <p:spPr>
            <a:xfrm>
              <a:off x="2020680" y="5175360"/>
              <a:ext cx="2788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cr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784520" y="5307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1784520" y="5705640"/>
            <a:ext cx="4254480" cy="398880"/>
            <a:chOff x="1784520" y="5705640"/>
            <a:chExt cx="4254480" cy="398880"/>
          </a:xfrm>
        </p:grpSpPr>
        <p:sp>
          <p:nvSpPr>
            <p:cNvPr id="1020" name=""/>
            <p:cNvSpPr/>
            <p:nvPr/>
          </p:nvSpPr>
          <p:spPr>
            <a:xfrm>
              <a:off x="2017800" y="570564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784520" y="58370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22" name=""/>
          <p:cNvCxnSpPr>
            <a:stCxn id="986" idx="2"/>
            <a:endCxn id="1006" idx="2"/>
          </p:cNvCxnSpPr>
          <p:nvPr/>
        </p:nvCxnSpPr>
        <p:spPr>
          <a:xfrm flipH="1" rot="16200000">
            <a:off x="911880" y="1911600"/>
            <a:ext cx="13323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3" name=""/>
          <p:cNvCxnSpPr>
            <a:stCxn id="986" idx="2"/>
            <a:endCxn id="1009" idx="2"/>
          </p:cNvCxnSpPr>
          <p:nvPr/>
        </p:nvCxnSpPr>
        <p:spPr>
          <a:xfrm flipH="1" rot="16200000">
            <a:off x="383400" y="2440440"/>
            <a:ext cx="23893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4" name=""/>
          <p:cNvCxnSpPr>
            <a:stCxn id="986" idx="2"/>
            <a:endCxn id="1012" idx="2"/>
          </p:cNvCxnSpPr>
          <p:nvPr/>
        </p:nvCxnSpPr>
        <p:spPr>
          <a:xfrm flipH="1" rot="16200000">
            <a:off x="118080" y="2705400"/>
            <a:ext cx="29199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5" name=""/>
          <p:cNvCxnSpPr>
            <a:stCxn id="986" idx="2"/>
            <a:endCxn id="1015" idx="2"/>
          </p:cNvCxnSpPr>
          <p:nvPr/>
        </p:nvCxnSpPr>
        <p:spPr>
          <a:xfrm flipH="1" rot="16200000">
            <a:off x="-146160" y="2969640"/>
            <a:ext cx="34484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6" name=""/>
          <p:cNvCxnSpPr>
            <a:stCxn id="986" idx="2"/>
            <a:endCxn id="1018" idx="2"/>
          </p:cNvCxnSpPr>
          <p:nvPr/>
        </p:nvCxnSpPr>
        <p:spPr>
          <a:xfrm flipH="1" rot="16200000">
            <a:off x="-410400" y="3234240"/>
            <a:ext cx="397728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7" name=""/>
          <p:cNvCxnSpPr>
            <a:stCxn id="986" idx="2"/>
            <a:endCxn id="1021" idx="2"/>
          </p:cNvCxnSpPr>
          <p:nvPr/>
        </p:nvCxnSpPr>
        <p:spPr>
          <a:xfrm flipH="1" rot="16200000">
            <a:off x="-675720" y="3499200"/>
            <a:ext cx="4507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 (Bolt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Bol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FASTENER_SIMPLE_BOLT (1001, 'my bolt', 'test', 'preliminary design', '8.8', #2, #4, $, $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Diamet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POSITIVE_LENGTH_MEASURE_WITH_UNIT (POSITIVE_LENGTH_MEASURE(2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Length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POSITIVE_LENGTH_MEASURE_WITH_UNIT (POSITIVE_LENGTH_MEASURE(15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u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FASTENER_SIMPLE_NUT (1234, 'my nut', $, $, '8.8', #2, 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POSITIVE_LENGTH_MEASURE_WITH_UNIT (POSITIVE_LENGTH_MEASURE(18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Wash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FASTENER_SIMPLE_WASHER (5432, 'my washer', $, $, '', #2, #8, $, $, #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8 = POSITIVE_LENGTH_MEASURE_WITH_UNIT (POSITIVE_LENGTH_MEASURE(12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LENGTH_MEASURE_WITH_UNIT (LENGTH_MEASURE(5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Fastener Mechanism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FASTENER_MECHANISM (4321, 'my fastener mechanism', $, $, $, (#1, #5, #7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85480" y="1112760"/>
            <a:ext cx="8620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2  = JOINT_SYSTEM_MECHANICAL (543, 'bm1', $, .SHOP_PROCESS., (#101, #102, #103, #104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1 = CARTESIAN_POINT ('layout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 = CARTESIAN_POINT ('layout point 2', (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3 = CARTESIAN_POINT ('layout point 3', (10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4 = CARTESIAN_POINT ('layout point 4', (10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1 = REPRESENTATION ('layout points', (#101, #102, #103, #104), #5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2 = (GEOMETRIC_REPRESENTATION_CONTEXT(2) GLOBAL_UNIT_ASSIGNED_CONTEXT((#3)) REPRESENTATION_CONTEXT ('context for layout points', 'units for layout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" descr=""/>
          <p:cNvPicPr/>
          <p:nvPr/>
        </p:nvPicPr>
        <p:blipFill>
          <a:blip r:embed="rId1"/>
          <a:stretch/>
        </p:blipFill>
        <p:spPr>
          <a:xfrm>
            <a:off x="1079640" y="1219320"/>
            <a:ext cx="7391160" cy="4781520"/>
          </a:xfrm>
          <a:prstGeom prst="rect">
            <a:avLst/>
          </a:prstGeom>
          <a:ln w="0">
            <a:noFill/>
          </a:ln>
        </p:spPr>
      </p:pic>
      <p:sp>
        <p:nvSpPr>
          <p:cNvPr id="1035" name=""/>
          <p:cNvSpPr/>
          <p:nvPr/>
        </p:nvSpPr>
        <p:spPr>
          <a:xfrm>
            <a:off x="3543840" y="30312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2455560" y="738360"/>
            <a:ext cx="1390680" cy="2206440"/>
            <a:chOff x="2455560" y="738360"/>
            <a:chExt cx="1390680" cy="2206440"/>
          </a:xfrm>
        </p:grpSpPr>
        <p:sp>
          <p:nvSpPr>
            <p:cNvPr id="1037" name=""/>
            <p:cNvSpPr/>
            <p:nvPr/>
          </p:nvSpPr>
          <p:spPr>
            <a:xfrm>
              <a:off x="3846240" y="738360"/>
              <a:ext cx="0" cy="2206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455560" y="79056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5746680" y="738360"/>
            <a:ext cx="1433880" cy="2222280"/>
            <a:chOff x="5746680" y="738360"/>
            <a:chExt cx="1433880" cy="2222280"/>
          </a:xfrm>
        </p:grpSpPr>
        <p:sp>
          <p:nvSpPr>
            <p:cNvPr id="1040" name=""/>
            <p:cNvSpPr/>
            <p:nvPr/>
          </p:nvSpPr>
          <p:spPr>
            <a:xfrm>
              <a:off x="5817960" y="79056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746680" y="738360"/>
              <a:ext cx="0" cy="2222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5730840" y="1544760"/>
            <a:ext cx="2665800" cy="2881440"/>
            <a:chOff x="5730840" y="1544760"/>
            <a:chExt cx="2665800" cy="2881440"/>
          </a:xfrm>
        </p:grpSpPr>
        <p:sp>
          <p:nvSpPr>
            <p:cNvPr id="1043" name=""/>
            <p:cNvSpPr/>
            <p:nvPr/>
          </p:nvSpPr>
          <p:spPr>
            <a:xfrm>
              <a:off x="5730840" y="298764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929920" y="402732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366600" y="344952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921360" y="383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7" name=""/>
            <p:cNvCxnSpPr>
              <a:stCxn id="1043" idx="2"/>
              <a:endCxn id="1046" idx="0"/>
            </p:cNvCxnSpPr>
            <p:nvPr/>
          </p:nvCxnSpPr>
          <p:spPr>
            <a:xfrm flipH="1">
              <a:off x="6996960" y="342684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48" name=""/>
            <p:cNvSpPr/>
            <p:nvPr/>
          </p:nvSpPr>
          <p:spPr>
            <a:xfrm>
              <a:off x="5913720" y="154476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921360" y="19764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379920" y="225108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1" name=""/>
            <p:cNvCxnSpPr>
              <a:stCxn id="1049" idx="4"/>
              <a:endCxn id="1043" idx="0"/>
            </p:cNvCxnSpPr>
            <p:nvPr/>
          </p:nvCxnSpPr>
          <p:spPr>
            <a:xfrm>
              <a:off x="6997320" y="214308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1052" name=""/>
          <p:cNvGrpSpPr/>
          <p:nvPr/>
        </p:nvGrpSpPr>
        <p:grpSpPr>
          <a:xfrm>
            <a:off x="1111680" y="1484280"/>
            <a:ext cx="3418920" cy="4150440"/>
            <a:chOff x="1111680" y="1484280"/>
            <a:chExt cx="3418920" cy="4150440"/>
          </a:xfrm>
        </p:grpSpPr>
        <p:sp>
          <p:nvSpPr>
            <p:cNvPr id="1053" name=""/>
            <p:cNvSpPr/>
            <p:nvPr/>
          </p:nvSpPr>
          <p:spPr>
            <a:xfrm>
              <a:off x="1587240" y="493092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4" name=""/>
            <p:cNvCxnSpPr>
              <a:stCxn id="1055" idx="2"/>
              <a:endCxn id="1056" idx="0"/>
            </p:cNvCxnSpPr>
            <p:nvPr/>
          </p:nvCxnSpPr>
          <p:spPr>
            <a:xfrm>
              <a:off x="2625120" y="339696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57" name=""/>
            <p:cNvSpPr/>
            <p:nvPr/>
          </p:nvSpPr>
          <p:spPr>
            <a:xfrm>
              <a:off x="2704320" y="343368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0680" y="37796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111680" y="29574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353960" y="39384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9" name=""/>
            <p:cNvCxnSpPr>
              <a:stCxn id="1058" idx="2"/>
              <a:endCxn id="1060" idx="0"/>
            </p:cNvCxnSpPr>
            <p:nvPr/>
          </p:nvCxnSpPr>
          <p:spPr>
            <a:xfrm>
              <a:off x="2627280" y="437796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61" name=""/>
            <p:cNvSpPr/>
            <p:nvPr/>
          </p:nvSpPr>
          <p:spPr>
            <a:xfrm>
              <a:off x="2774880" y="440064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0680" y="4746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167560" y="148428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549520" y="191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877760" y="210348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5" name=""/>
            <p:cNvCxnSpPr>
              <a:stCxn id="1063" idx="4"/>
              <a:endCxn id="1055" idx="0"/>
            </p:cNvCxnSpPr>
            <p:nvPr/>
          </p:nvCxnSpPr>
          <p:spPr>
            <a:xfrm>
              <a:off x="2625120" y="208224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67" name=""/>
          <p:cNvGraphicFramePr/>
          <p:nvPr/>
        </p:nvGraphicFramePr>
        <p:xfrm>
          <a:off x="270000" y="933480"/>
          <a:ext cx="8602560" cy="50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933480"/>
                    <a:ext cx="86025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-320760" y="0"/>
          <a:ext cx="9464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0760" y="0"/>
                    <a:ext cx="9464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30320" y="878040"/>
            <a:ext cx="6167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duct Definition &amp; Items Referen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composition &amp; Composi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arts &amp; Materia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Joint Systems &amp; Fasten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146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Decomposition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150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85720" y="96192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1068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6"/>
            <a:endCxn id="153" idx="1"/>
          </p:cNvCxnSpPr>
          <p:nvPr/>
        </p:nvCxnSpPr>
        <p:spPr>
          <a:xfrm>
            <a:off x="3935160" y="116172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6" name=""/>
          <p:cNvCxnSpPr>
            <a:stCxn id="153" idx="2"/>
            <a:endCxn id="157" idx="0"/>
          </p:cNvCxnSpPr>
          <p:nvPr/>
        </p:nvCxnSpPr>
        <p:spPr>
          <a:xfrm>
            <a:off x="7507440" y="140184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6451200" y="205092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84760" y="291456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03920" y="320976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81000" y="4838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627520" y="3965400"/>
            <a:ext cx="3232440" cy="703800"/>
            <a:chOff x="5627520" y="3965400"/>
            <a:chExt cx="3232440" cy="703800"/>
          </a:xfrm>
        </p:grpSpPr>
        <p:sp>
          <p:nvSpPr>
            <p:cNvPr id="163" name=""/>
            <p:cNvSpPr/>
            <p:nvPr/>
          </p:nvSpPr>
          <p:spPr>
            <a:xfrm>
              <a:off x="5846040" y="396540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27520" y="4241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5" name=""/>
          <p:cNvCxnSpPr>
            <a:stCxn id="166" idx="3"/>
            <a:endCxn id="164" idx="2"/>
          </p:cNvCxnSpPr>
          <p:nvPr/>
        </p:nvCxnSpPr>
        <p:spPr>
          <a:xfrm>
            <a:off x="3919320" y="3254040"/>
            <a:ext cx="1680120" cy="108180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67" name=""/>
          <p:cNvSpPr/>
          <p:nvPr/>
        </p:nvSpPr>
        <p:spPr>
          <a:xfrm>
            <a:off x="6817320" y="550404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5880" y="3041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9" idx="0"/>
            <a:endCxn id="163" idx="2"/>
          </p:cNvCxnSpPr>
          <p:nvPr/>
        </p:nvCxnSpPr>
        <p:spPr>
          <a:xfrm flipH="1" flipV="1">
            <a:off x="7352640" y="470952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70" name=""/>
          <p:cNvGrpSpPr/>
          <p:nvPr/>
        </p:nvGrpSpPr>
        <p:grpSpPr>
          <a:xfrm>
            <a:off x="975240" y="4370400"/>
            <a:ext cx="858240" cy="398880"/>
            <a:chOff x="975240" y="4370400"/>
            <a:chExt cx="858240" cy="398880"/>
          </a:xfrm>
        </p:grpSpPr>
        <p:sp>
          <p:nvSpPr>
            <p:cNvPr id="171" name=""/>
            <p:cNvSpPr/>
            <p:nvPr/>
          </p:nvSpPr>
          <p:spPr>
            <a:xfrm>
              <a:off x="975240" y="437040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46280" y="44719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9040" y="3843360"/>
            <a:ext cx="1234440" cy="398880"/>
            <a:chOff x="599040" y="3843360"/>
            <a:chExt cx="1234440" cy="398880"/>
          </a:xfrm>
        </p:grpSpPr>
        <p:sp>
          <p:nvSpPr>
            <p:cNvPr id="174" name=""/>
            <p:cNvSpPr/>
            <p:nvPr/>
          </p:nvSpPr>
          <p:spPr>
            <a:xfrm>
              <a:off x="599040" y="384336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4628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97880" y="4890960"/>
            <a:ext cx="1335240" cy="398880"/>
            <a:chOff x="497880" y="4890960"/>
            <a:chExt cx="1335240" cy="398880"/>
          </a:xfrm>
        </p:grpSpPr>
        <p:sp>
          <p:nvSpPr>
            <p:cNvPr id="177" name=""/>
            <p:cNvSpPr/>
            <p:nvPr/>
          </p:nvSpPr>
          <p:spPr>
            <a:xfrm>
              <a:off x="497880" y="489096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45920" y="5008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990440" y="3562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66" idx="2"/>
            <a:endCxn id="175" idx="6"/>
          </p:cNvCxnSpPr>
          <p:nvPr/>
        </p:nvCxnSpPr>
        <p:spPr>
          <a:xfrm rot="5400000">
            <a:off x="1818000" y="3524760"/>
            <a:ext cx="572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1" name=""/>
          <p:cNvCxnSpPr>
            <a:stCxn id="166" idx="2"/>
            <a:endCxn id="172" idx="6"/>
          </p:cNvCxnSpPr>
          <p:nvPr/>
        </p:nvCxnSpPr>
        <p:spPr>
          <a:xfrm rot="5400000">
            <a:off x="1561680" y="3781080"/>
            <a:ext cx="108468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2" name=""/>
          <p:cNvCxnSpPr>
            <a:stCxn id="166" idx="2"/>
            <a:endCxn id="178" idx="6"/>
          </p:cNvCxnSpPr>
          <p:nvPr/>
        </p:nvCxnSpPr>
        <p:spPr>
          <a:xfrm rot="5400000">
            <a:off x="1293120" y="4049640"/>
            <a:ext cx="16214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339120" y="54547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63560" y="57452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66" idx="2"/>
            <a:endCxn id="184" idx="6"/>
          </p:cNvCxnSpPr>
          <p:nvPr/>
        </p:nvCxnSpPr>
        <p:spPr>
          <a:xfrm rot="5400000">
            <a:off x="933480" y="4426560"/>
            <a:ext cx="2358000" cy="467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3762720" y="36687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27960" y="8082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39040" y="2735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80280" y="5348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22200" y="1158840"/>
            <a:ext cx="2224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71760" y="1190520"/>
            <a:ext cx="3013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9360" y="112716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66960" y="93492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38400" y="28130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8" idx="2"/>
            <a:endCxn id="192" idx="0"/>
          </p:cNvCxnSpPr>
          <p:nvPr/>
        </p:nvCxnSpPr>
        <p:spPr>
          <a:xfrm rot="5400000">
            <a:off x="614520" y="2065680"/>
            <a:ext cx="1435680" cy="2160"/>
          </a:xfrm>
          <a:prstGeom prst="bentConnector3">
            <a:avLst>
              <a:gd name="adj1" fmla="val 5099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2036880" y="148428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2200" y="19954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9040" y="249084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71880" y="2089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26128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25320" y="180504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52920" y="232560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734000" y="1576440"/>
            <a:ext cx="1524240" cy="376200"/>
            <a:chOff x="4734000" y="1576440"/>
            <a:chExt cx="1524240" cy="376200"/>
          </a:xfrm>
        </p:grpSpPr>
        <p:sp>
          <p:nvSpPr>
            <p:cNvPr id="202" name=""/>
            <p:cNvSpPr/>
            <p:nvPr/>
          </p:nvSpPr>
          <p:spPr>
            <a:xfrm>
              <a:off x="4734000" y="173196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4933080" y="1576440"/>
              <a:ext cx="1325160" cy="376200"/>
              <a:chOff x="4933080" y="1576440"/>
              <a:chExt cx="1325160" cy="376200"/>
            </a:xfrm>
          </p:grpSpPr>
          <p:sp>
            <p:nvSpPr>
              <p:cNvPr id="204" name=""/>
              <p:cNvSpPr/>
              <p:nvPr/>
            </p:nvSpPr>
            <p:spPr>
              <a:xfrm>
                <a:off x="4933080" y="1576440"/>
                <a:ext cx="132516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INTEGER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6127200" y="1587240"/>
                <a:ext cx="0" cy="36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206" name=""/>
          <p:cNvCxnSpPr>
            <a:stCxn id="198" idx="2"/>
            <a:endCxn id="189" idx="2"/>
          </p:cNvCxnSpPr>
          <p:nvPr/>
        </p:nvCxnSpPr>
        <p:spPr>
          <a:xfrm rot="10800000">
            <a:off x="1721880" y="1348560"/>
            <a:ext cx="2226240" cy="1358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97" idx="2"/>
            <a:endCxn id="191" idx="2"/>
          </p:cNvCxnSpPr>
          <p:nvPr/>
        </p:nvCxnSpPr>
        <p:spPr>
          <a:xfrm rot="10800000">
            <a:off x="2328120" y="1374120"/>
            <a:ext cx="1629360" cy="808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202" idx="2"/>
            <a:endCxn id="190" idx="2"/>
          </p:cNvCxnSpPr>
          <p:nvPr/>
        </p:nvCxnSpPr>
        <p:spPr>
          <a:xfrm rot="10800000">
            <a:off x="2991600" y="1348560"/>
            <a:ext cx="1728000" cy="459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3076560" y="1440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0360" y="123660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31520" y="139212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13360" y="15127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3" idx="2"/>
            <a:endCxn id="211" idx="3"/>
          </p:cNvCxnSpPr>
          <p:nvPr/>
        </p:nvCxnSpPr>
        <p:spPr>
          <a:xfrm flipH="1" flipV="1">
            <a:off x="1466640" y="1601280"/>
            <a:ext cx="4418640" cy="57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15" name=""/>
          <p:cNvCxnSpPr>
            <a:stCxn id="212" idx="2"/>
            <a:endCxn id="216" idx="0"/>
          </p:cNvCxnSpPr>
          <p:nvPr/>
        </p:nvCxnSpPr>
        <p:spPr>
          <a:xfrm>
            <a:off x="7477200" y="1831680"/>
            <a:ext cx="8640" cy="889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7503480" y="21956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83000" y="291636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89880" y="320976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75200" y="12128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23360" y="575640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5240" y="572760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79360" y="3967200"/>
            <a:ext cx="2151360" cy="613440"/>
            <a:chOff x="279360" y="3967200"/>
            <a:chExt cx="2151360" cy="613440"/>
          </a:xfrm>
        </p:grpSpPr>
        <p:sp>
          <p:nvSpPr>
            <p:cNvPr id="224" name=""/>
            <p:cNvSpPr/>
            <p:nvPr/>
          </p:nvSpPr>
          <p:spPr>
            <a:xfrm>
              <a:off x="279360" y="418176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60360" y="3967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7110720" y="48276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309560" y="3981600"/>
            <a:ext cx="3192480" cy="629280"/>
            <a:chOff x="4309560" y="3981600"/>
            <a:chExt cx="3192480" cy="629280"/>
          </a:xfrm>
        </p:grpSpPr>
        <p:sp>
          <p:nvSpPr>
            <p:cNvPr id="228" name=""/>
            <p:cNvSpPr/>
            <p:nvPr/>
          </p:nvSpPr>
          <p:spPr>
            <a:xfrm>
              <a:off x="4309560" y="4212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09960" y="3981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49760" y="43819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7408800" y="27352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57360" y="43387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55404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49200" y="5511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24" idx="2"/>
            <a:endCxn id="233" idx="0"/>
          </p:cNvCxnSpPr>
          <p:nvPr/>
        </p:nvCxnSpPr>
        <p:spPr>
          <a:xfrm flipH="1">
            <a:off x="1342440" y="4621320"/>
            <a:ext cx="1332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28" idx="2"/>
            <a:endCxn id="232" idx="0"/>
          </p:cNvCxnSpPr>
          <p:nvPr/>
        </p:nvCxnSpPr>
        <p:spPr>
          <a:xfrm>
            <a:off x="5816160" y="4650840"/>
            <a:ext cx="2520" cy="8614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21" idx="3"/>
            <a:endCxn id="230" idx="6"/>
          </p:cNvCxnSpPr>
          <p:nvPr/>
        </p:nvCxnSpPr>
        <p:spPr>
          <a:xfrm flipH="1" flipV="1">
            <a:off x="7516080" y="445752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22" idx="3"/>
            <a:endCxn id="231" idx="6"/>
          </p:cNvCxnSpPr>
          <p:nvPr/>
        </p:nvCxnSpPr>
        <p:spPr>
          <a:xfrm flipH="1" flipV="1">
            <a:off x="2623680" y="4414320"/>
            <a:ext cx="565920" cy="1526400"/>
          </a:xfrm>
          <a:prstGeom prst="bentConnector3">
            <a:avLst>
              <a:gd name="adj1" fmla="val -37873"/>
            </a:avLst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38" name=""/>
          <p:cNvCxnSpPr>
            <a:stCxn id="211" idx="2"/>
            <a:endCxn id="225" idx="0"/>
          </p:cNvCxnSpPr>
          <p:nvPr/>
        </p:nvCxnSpPr>
        <p:spPr>
          <a:xfrm flipH="1" rot="16200000">
            <a:off x="102960" y="2687400"/>
            <a:ext cx="1958400" cy="545040"/>
          </a:xfrm>
          <a:prstGeom prst="bentConnector3">
            <a:avLst>
              <a:gd name="adj1" fmla="val 5035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9" name=""/>
          <p:cNvCxnSpPr>
            <a:stCxn id="211" idx="2"/>
            <a:endCxn id="229" idx="0"/>
          </p:cNvCxnSpPr>
          <p:nvPr/>
        </p:nvCxnSpPr>
        <p:spPr>
          <a:xfrm flipH="1" rot="16200000">
            <a:off x="2319840" y="46944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2622960" y="488484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0520" y="2498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8760" y="3857760"/>
            <a:ext cx="3571920" cy="23652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46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6" idx="3"/>
            <a:endCxn id="24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43" idx="0"/>
            <a:endCxn id="24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51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826920" y="5719680"/>
            <a:ext cx="4353120" cy="398880"/>
            <a:chOff x="826920" y="5719680"/>
            <a:chExt cx="4353120" cy="398880"/>
          </a:xfrm>
        </p:grpSpPr>
        <p:sp>
          <p:nvSpPr>
            <p:cNvPr id="254" name=""/>
            <p:cNvSpPr/>
            <p:nvPr/>
          </p:nvSpPr>
          <p:spPr>
            <a:xfrm>
              <a:off x="82692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4616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57" name="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59" idx="2"/>
            <a:endCxn id="24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1" name=""/>
          <p:cNvCxnSpPr>
            <a:stCxn id="259" idx="2"/>
            <a:endCxn id="257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2" name=""/>
          <p:cNvCxnSpPr>
            <a:stCxn id="259" idx="2"/>
            <a:endCxn id="254" idx="2"/>
          </p:cNvCxnSpPr>
          <p:nvPr/>
        </p:nvCxnSpPr>
        <p:spPr>
          <a:xfrm flipH="1" rot="16200000">
            <a:off x="-1684440" y="3458880"/>
            <a:ext cx="4672800" cy="294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"/>
          <p:cNvCxnSpPr>
            <a:stCxn id="255" idx="3"/>
            <a:endCxn id="266" idx="6"/>
          </p:cNvCxnSpPr>
          <p:nvPr/>
        </p:nvCxnSpPr>
        <p:spPr>
          <a:xfrm flipV="1">
            <a:off x="5202360" y="2382480"/>
            <a:ext cx="437040" cy="3550320"/>
          </a:xfrm>
          <a:prstGeom prst="bentConnector3">
            <a:avLst>
              <a:gd name="adj1" fmla="val 65416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6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55" idx="0"/>
            <a:endCxn id="269" idx="4"/>
          </p:cNvCxnSpPr>
          <p:nvPr/>
        </p:nvCxnSpPr>
        <p:spPr>
          <a:xfrm flipV="1" rot="16200000">
            <a:off x="2517840" y="5110200"/>
            <a:ext cx="118188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142800" y="4788000"/>
            <a:ext cx="276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connec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29040" y="435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41:47Z</dcterms:modified>
  <cp:revision>100</cp:revision>
  <dc:subject/>
  <dc:title>LPM/5 - Design Constructs</dc:title>
</cp:coreProperties>
</file>